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D85-72F6-4E7D-B388-E33AD1AD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A85-FFB1-4D13-AF2F-D951EB2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BD1-BE16-4BB5-90FE-883F3A15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E98-81E1-4153-AFF3-0A2FA541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3AC-713A-4CC2-AD2C-D5283298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299-1D77-4158-A672-F3E6B65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D31-4137-40E9-B85F-38919B32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95E-45E0-4E88-88E1-76A80CCC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9F3-15EE-4C0C-8C50-7D916D5B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C0D-1A7F-4673-ACF7-DDC256E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1BD-E006-4846-B226-C174C81D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7CC-93AC-4D29-87AC-B83FD10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819-E400-4A45-B064-C644955C6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1337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Using 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29718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(3 +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6 + 9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3276720"/>
            <a:ext cx="680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6 + 9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3123720"/>
            <a:ext cx="709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12 – 3 + 5</a:t>
            </a:r>
            <a:r>
              <a:rPr b="0" lang="en-GB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olve: 2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1066680" y="2133720"/>
            <a:ext cx="716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Now add up all the answers to identify the thief from the following gallery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475160" y="28065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24000" y="29242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037280" y="58770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484360" y="5950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195640" y="2349360"/>
            <a:ext cx="12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498920" y="6093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20000" y="22766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528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er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8770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r. Hi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428292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ide Show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7" descr="Waylon Smithers"/>
          <p:cNvPicPr/>
          <p:nvPr/>
        </p:nvPicPr>
        <p:blipFill>
          <a:blip r:embed="rId1"/>
          <a:stretch/>
        </p:blipFill>
        <p:spPr>
          <a:xfrm>
            <a:off x="2411280" y="3645000"/>
            <a:ext cx="828720" cy="2279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8"/>
          <p:cNvSpPr/>
          <p:nvPr/>
        </p:nvSpPr>
        <p:spPr>
          <a:xfrm>
            <a:off x="226836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0" descr="Ned Flanders"/>
          <p:cNvPicPr/>
          <p:nvPr/>
        </p:nvPicPr>
        <p:blipFill>
          <a:blip r:embed="rId2"/>
          <a:stretch/>
        </p:blipFill>
        <p:spPr>
          <a:xfrm>
            <a:off x="4284720" y="620640"/>
            <a:ext cx="114300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4068720" y="262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d Fla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3" descr="Sideshow Bob"/>
          <p:cNvPicPr/>
          <p:nvPr/>
        </p:nvPicPr>
        <p:blipFill>
          <a:blip r:embed="rId3"/>
          <a:stretch/>
        </p:blipFill>
        <p:spPr>
          <a:xfrm>
            <a:off x="4427640" y="3645000"/>
            <a:ext cx="123804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Dr. Hibbert"/>
          <p:cNvPicPr/>
          <p:nvPr/>
        </p:nvPicPr>
        <p:blipFill>
          <a:blip r:embed="rId4"/>
          <a:stretch/>
        </p:blipFill>
        <p:spPr>
          <a:xfrm>
            <a:off x="6948360" y="4149720"/>
            <a:ext cx="123840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Krusty the Clown"/>
          <p:cNvPicPr/>
          <p:nvPr/>
        </p:nvPicPr>
        <p:blipFill>
          <a:blip r:embed="rId5"/>
          <a:stretch/>
        </p:blipFill>
        <p:spPr>
          <a:xfrm>
            <a:off x="6948360" y="476280"/>
            <a:ext cx="123840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948360" y="115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Kru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0" descr="Homer Simpson"/>
          <p:cNvPicPr/>
          <p:nvPr/>
        </p:nvPicPr>
        <p:blipFill>
          <a:blip r:embed="rId6"/>
          <a:stretch/>
        </p:blipFill>
        <p:spPr>
          <a:xfrm>
            <a:off x="324000" y="4221000"/>
            <a:ext cx="1077840" cy="165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Grampa Simpson"/>
          <p:cNvPicPr/>
          <p:nvPr/>
        </p:nvPicPr>
        <p:blipFill>
          <a:blip r:embed="rId7"/>
          <a:stretch/>
        </p:blipFill>
        <p:spPr>
          <a:xfrm>
            <a:off x="324000" y="836640"/>
            <a:ext cx="1143000" cy="205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324000" y="47628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and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1" descr="Patty Bouvier"/>
          <p:cNvPicPr/>
          <p:nvPr/>
        </p:nvPicPr>
        <p:blipFill>
          <a:blip r:embed="rId8"/>
          <a:stretch/>
        </p:blipFill>
        <p:spPr>
          <a:xfrm>
            <a:off x="2050920" y="54936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4"/>
          <p:cNvSpPr/>
          <p:nvPr/>
        </p:nvSpPr>
        <p:spPr>
          <a:xfrm>
            <a:off x="226836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t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066680" y="2133720"/>
            <a:ext cx="716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Did you correctly identify the rob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side-show-bob"/>
          <p:cNvPicPr/>
          <p:nvPr/>
        </p:nvPicPr>
        <p:blipFill>
          <a:blip r:embed="rId1"/>
          <a:stretch/>
        </p:blipFill>
        <p:spPr>
          <a:xfrm>
            <a:off x="1187280" y="0"/>
            <a:ext cx="64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755640" y="57340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you help Chief Clancy Wiggum work out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55640" y="4941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one in Springfield has robbed Kwik – e- m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ANd9GcRIAV2KU1MHcSmDBUBL_xIylJb0srVN38Yzx6CdlnIrXeFRFZSzQQ&amp;t=1"/>
          <p:cNvPicPr/>
          <p:nvPr/>
        </p:nvPicPr>
        <p:blipFill>
          <a:blip r:embed="rId1"/>
          <a:stretch/>
        </p:blipFill>
        <p:spPr>
          <a:xfrm>
            <a:off x="2700360" y="0"/>
            <a:ext cx="3032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1905120"/>
            <a:ext cx="3886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+ 4 x10 =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3 + 4) x 10 =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+2x3+1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3+1 =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5+2)x(3+1) = 2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80880" y="304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84720" y="1905120"/>
            <a:ext cx="4608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 + 2 x (3 + 1)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 + 9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6 + 9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3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2 -3 + 5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= 4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51814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tal of all solutions:   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971640" y="2133720"/>
            <a:ext cx="7561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solve the crime, you need to use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BIDMA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09480" y="533520"/>
            <a:ext cx="71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ere is an 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ind the value of:    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 + 3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2 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 14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066680" y="2057400"/>
            <a:ext cx="71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ou will have only 15 seconds to solve each clue……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295280" y="2971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3 + 4 x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2971800"/>
            <a:ext cx="763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  (3 + 4) x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5 +2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2971800"/>
            <a:ext cx="82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olve: (5 +2) x 3 +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1:23:12Z</dcterms:created>
  <dc:creator>Atcham</dc:creator>
  <dc:description/>
  <dc:language>en-US</dc:language>
  <cp:lastModifiedBy>Chris Kendrick</cp:lastModifiedBy>
  <dcterms:modified xsi:type="dcterms:W3CDTF">2012-11-08T11:59:06Z</dcterms:modified>
  <cp:revision>7</cp:revision>
  <dc:subject/>
  <dc:title>Slide 1</dc:title>
</cp:coreProperties>
</file>