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37E-B22C-4C74-8616-52348B40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E1F-76F8-4C83-AE3B-5C924AB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A7B-22EB-4379-84A0-A9E031B4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5D1-26AB-4BD0-A948-A0C17540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3AB-D07C-4EEE-B046-75CE6340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5D1-290D-4933-97B9-E15328E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D89-F1BA-435E-89B8-74049B7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1FC-14C6-4054-9D97-FFE83FD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73E-972B-4575-BC8E-9E45A36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5FF-432E-4896-A04D-3D340DCA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07D-9B60-4F6B-83B3-0DB6FB2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B5C-DD9C-401E-A3C7-C4DE6A5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F2A0-7DA2-478E-8F12-85FC842F38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1337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sing 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6 + 9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327672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6 + 9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3123720"/>
            <a:ext cx="709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12 – 3 + 5</a:t>
            </a:r>
            <a:r>
              <a:rPr b="0" lang="en-GB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olve: 2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066680" y="2133720"/>
            <a:ext cx="71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add up all the answers to identify the thief from the following galler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475160" y="28065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24000" y="29242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037280" y="58770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484360" y="5950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195640" y="234936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498920" y="609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20000" y="22766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528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er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877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. Hi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4282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de 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Waylon Smithers"/>
          <p:cNvPicPr/>
          <p:nvPr/>
        </p:nvPicPr>
        <p:blipFill>
          <a:blip r:embed="rId1"/>
          <a:stretch/>
        </p:blipFill>
        <p:spPr>
          <a:xfrm>
            <a:off x="2411280" y="3645000"/>
            <a:ext cx="828720" cy="2279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8"/>
          <p:cNvSpPr/>
          <p:nvPr/>
        </p:nvSpPr>
        <p:spPr>
          <a:xfrm>
            <a:off x="2268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0" descr="Ned Flanders"/>
          <p:cNvPicPr/>
          <p:nvPr/>
        </p:nvPicPr>
        <p:blipFill>
          <a:blip r:embed="rId2"/>
          <a:stretch/>
        </p:blipFill>
        <p:spPr>
          <a:xfrm>
            <a:off x="4284720" y="620640"/>
            <a:ext cx="114300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4068720" y="262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d 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Sideshow Bob"/>
          <p:cNvPicPr/>
          <p:nvPr/>
        </p:nvPicPr>
        <p:blipFill>
          <a:blip r:embed="rId3"/>
          <a:stretch/>
        </p:blipFill>
        <p:spPr>
          <a:xfrm>
            <a:off x="4427640" y="3645000"/>
            <a:ext cx="123804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Dr. Hibbert"/>
          <p:cNvPicPr/>
          <p:nvPr/>
        </p:nvPicPr>
        <p:blipFill>
          <a:blip r:embed="rId4"/>
          <a:stretch/>
        </p:blipFill>
        <p:spPr>
          <a:xfrm>
            <a:off x="6948360" y="4149720"/>
            <a:ext cx="123840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Krusty the Clown"/>
          <p:cNvPicPr/>
          <p:nvPr/>
        </p:nvPicPr>
        <p:blipFill>
          <a:blip r:embed="rId5"/>
          <a:stretch/>
        </p:blipFill>
        <p:spPr>
          <a:xfrm>
            <a:off x="6948360" y="476280"/>
            <a:ext cx="123840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948360" y="115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ru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0" descr="Homer Simpson"/>
          <p:cNvPicPr/>
          <p:nvPr/>
        </p:nvPicPr>
        <p:blipFill>
          <a:blip r:embed="rId6"/>
          <a:stretch/>
        </p:blipFill>
        <p:spPr>
          <a:xfrm>
            <a:off x="324000" y="4221000"/>
            <a:ext cx="107784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Grampa Simpson"/>
          <p:cNvPicPr/>
          <p:nvPr/>
        </p:nvPicPr>
        <p:blipFill>
          <a:blip r:embed="rId7"/>
          <a:stretch/>
        </p:blipFill>
        <p:spPr>
          <a:xfrm>
            <a:off x="324000" y="836640"/>
            <a:ext cx="114300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324000" y="47628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and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1" descr="Patty Bouvier"/>
          <p:cNvPicPr/>
          <p:nvPr/>
        </p:nvPicPr>
        <p:blipFill>
          <a:blip r:embed="rId8"/>
          <a:stretch/>
        </p:blipFill>
        <p:spPr>
          <a:xfrm>
            <a:off x="2050920" y="54936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4"/>
          <p:cNvSpPr/>
          <p:nvPr/>
        </p:nvSpPr>
        <p:spPr>
          <a:xfrm>
            <a:off x="226836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066680" y="2133720"/>
            <a:ext cx="71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id you correctly identify the rob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ide-show-bob"/>
          <p:cNvPicPr/>
          <p:nvPr/>
        </p:nvPicPr>
        <p:blipFill>
          <a:blip r:embed="rId1"/>
          <a:stretch/>
        </p:blipFill>
        <p:spPr>
          <a:xfrm>
            <a:off x="1187280" y="0"/>
            <a:ext cx="64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755640" y="57340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you help Chief Clancy Wiggum work out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55640" y="49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one in Springfield has robbed Kwik – e- m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ANd9GcRIAV2KU1MHcSmDBUBL_xIylJb0srVN38Yzx6CdlnIrXeFRFZSzQQ&amp;t=1"/>
          <p:cNvPicPr/>
          <p:nvPr/>
        </p:nvPicPr>
        <p:blipFill>
          <a:blip r:embed="rId1"/>
          <a:stretch/>
        </p:blipFill>
        <p:spPr>
          <a:xfrm>
            <a:off x="2700360" y="0"/>
            <a:ext cx="3032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05120"/>
            <a:ext cx="3886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+ 4 x10 =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3 + 4) x 10 =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+2x3+1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3+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(3+1) = 2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80880" y="304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84720" y="1905120"/>
            <a:ext cx="4608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 + 2 x (3 + 1)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 + 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6 + 9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 -3 + 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= 4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5181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tal of all solutions:   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2133720"/>
            <a:ext cx="7561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olve the crime, you need to use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533520"/>
            <a:ext cx="71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re is an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value of:    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2 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14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66680" y="2057400"/>
            <a:ext cx="71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will have only 15 seconds to solve each clue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95280" y="2971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3 + 4 x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2971800"/>
            <a:ext cx="763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 (3 + 4) x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1:23:12Z</dcterms:created>
  <dc:creator>Atcham</dc:creator>
  <dc:description/>
  <dc:language>en-US</dc:language>
  <cp:lastModifiedBy>Chris Kendrick</cp:lastModifiedBy>
  <dcterms:modified xsi:type="dcterms:W3CDTF">2012-11-08T11:59:06Z</dcterms:modified>
  <cp:revision>7</cp:revision>
  <dc:subject/>
  <dc:title>Slide 1</dc:title>
</cp:coreProperties>
</file>