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D54-0A87-4753-B859-7D4FB30C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4C8-8FE6-495A-95B2-790A5881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832-EE42-4774-8996-9BE2C296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615-765E-440D-A386-4D9B5EF5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F65-DBDB-4A70-BEE2-B9F06AC4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3C1-2401-4F88-86A5-7E1FE026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D6A-46A7-469D-A0F6-C77AFF78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D0F-5A8B-4760-A403-7C5D62A9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EB9-01E9-4C17-A823-C3A57502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CDD-6E92-450E-B42A-AF95A2A7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D60-A4DA-49EC-BF93-D283CD79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3FC-532E-44AB-99B2-0680DBCB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6BCB-E46F-4C08-B447-7A176C8B19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13372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sing BIDMA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3640" y="297180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(5 +2) x (3 + 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3640" y="297180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5 +2 x (3 + 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6 + 9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3276720"/>
            <a:ext cx="680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(6 + 9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280" y="3123720"/>
            <a:ext cx="7093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12 – 3 + 5</a:t>
            </a:r>
            <a:r>
              <a:rPr b="0" lang="en-GB" sz="6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olve: 2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+ 6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1066680" y="2133720"/>
            <a:ext cx="716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ow add up all the answers to identify the thief from the following gallery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475160" y="28065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24000" y="29242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037280" y="5877000"/>
            <a:ext cx="14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484360" y="59500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195640" y="2349360"/>
            <a:ext cx="12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498920" y="6093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020000" y="227664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395280" y="5877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er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6877080" y="38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r. Hib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4282920" y="32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ide Show B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7" descr="Waylon Smithers"/>
          <p:cNvPicPr/>
          <p:nvPr/>
        </p:nvPicPr>
        <p:blipFill>
          <a:blip r:embed="rId1"/>
          <a:stretch/>
        </p:blipFill>
        <p:spPr>
          <a:xfrm>
            <a:off x="2411280" y="3645000"/>
            <a:ext cx="828720" cy="2279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8"/>
          <p:cNvSpPr/>
          <p:nvPr/>
        </p:nvSpPr>
        <p:spPr>
          <a:xfrm>
            <a:off x="2268360" y="32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i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0" descr="Ned Flanders"/>
          <p:cNvPicPr/>
          <p:nvPr/>
        </p:nvPicPr>
        <p:blipFill>
          <a:blip r:embed="rId2"/>
          <a:stretch/>
        </p:blipFill>
        <p:spPr>
          <a:xfrm>
            <a:off x="4284720" y="620640"/>
            <a:ext cx="114300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4068720" y="262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d F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3" descr="Sideshow Bob"/>
          <p:cNvPicPr/>
          <p:nvPr/>
        </p:nvPicPr>
        <p:blipFill>
          <a:blip r:embed="rId3"/>
          <a:stretch/>
        </p:blipFill>
        <p:spPr>
          <a:xfrm>
            <a:off x="4427640" y="3645000"/>
            <a:ext cx="1238040" cy="240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Dr. Hibbert"/>
          <p:cNvPicPr/>
          <p:nvPr/>
        </p:nvPicPr>
        <p:blipFill>
          <a:blip r:embed="rId4"/>
          <a:stretch/>
        </p:blipFill>
        <p:spPr>
          <a:xfrm>
            <a:off x="6948360" y="4149720"/>
            <a:ext cx="123840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7" descr="Krusty the Clown"/>
          <p:cNvPicPr/>
          <p:nvPr/>
        </p:nvPicPr>
        <p:blipFill>
          <a:blip r:embed="rId5"/>
          <a:stretch/>
        </p:blipFill>
        <p:spPr>
          <a:xfrm>
            <a:off x="6948360" y="476280"/>
            <a:ext cx="1238400" cy="1905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8"/>
          <p:cNvSpPr/>
          <p:nvPr/>
        </p:nvSpPr>
        <p:spPr>
          <a:xfrm>
            <a:off x="6948360" y="1159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ru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0" descr="Homer Simpson"/>
          <p:cNvPicPr/>
          <p:nvPr/>
        </p:nvPicPr>
        <p:blipFill>
          <a:blip r:embed="rId6"/>
          <a:stretch/>
        </p:blipFill>
        <p:spPr>
          <a:xfrm>
            <a:off x="324000" y="4221000"/>
            <a:ext cx="1077840" cy="165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2" descr="Grampa Simpson"/>
          <p:cNvPicPr/>
          <p:nvPr/>
        </p:nvPicPr>
        <p:blipFill>
          <a:blip r:embed="rId7"/>
          <a:stretch/>
        </p:blipFill>
        <p:spPr>
          <a:xfrm>
            <a:off x="324000" y="836640"/>
            <a:ext cx="1143000" cy="2057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3"/>
          <p:cNvSpPr/>
          <p:nvPr/>
        </p:nvSpPr>
        <p:spPr>
          <a:xfrm>
            <a:off x="324000" y="47628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rand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1" descr="Patty Bouvier"/>
          <p:cNvPicPr/>
          <p:nvPr/>
        </p:nvPicPr>
        <p:blipFill>
          <a:blip r:embed="rId8"/>
          <a:stretch/>
        </p:blipFill>
        <p:spPr>
          <a:xfrm>
            <a:off x="2050920" y="549360"/>
            <a:ext cx="1428840" cy="1886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4"/>
          <p:cNvSpPr/>
          <p:nvPr/>
        </p:nvSpPr>
        <p:spPr>
          <a:xfrm>
            <a:off x="2268360" y="18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066680" y="2133720"/>
            <a:ext cx="716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Did you correctly identify the robb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side-show-bob"/>
          <p:cNvPicPr/>
          <p:nvPr/>
        </p:nvPicPr>
        <p:blipFill>
          <a:blip r:embed="rId1"/>
          <a:stretch/>
        </p:blipFill>
        <p:spPr>
          <a:xfrm>
            <a:off x="1187280" y="0"/>
            <a:ext cx="64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755640" y="57340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you help Chief Clancy Wiggum work out 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55640" y="4941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one in Springfield has robbed Kwik – e- m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ANd9GcRIAV2KU1MHcSmDBUBL_xIylJb0srVN38Yzx6CdlnIrXeFRFZSzQQ&amp;t=1"/>
          <p:cNvPicPr/>
          <p:nvPr/>
        </p:nvPicPr>
        <p:blipFill>
          <a:blip r:embed="rId1"/>
          <a:stretch/>
        </p:blipFill>
        <p:spPr>
          <a:xfrm>
            <a:off x="2700360" y="0"/>
            <a:ext cx="3032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85800" y="1905120"/>
            <a:ext cx="3886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+ 4 x10 = 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3 + 4) x 10 =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+2x3+1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5+2)x3+1 =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5+2)x(3+1) = 2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80880" y="304920"/>
            <a:ext cx="6705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84720" y="1905120"/>
            <a:ext cx="4608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 + 2 x (3 + 1)=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 + 9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6 + 9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3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2 -3 + 5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=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+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= 4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914400" y="5181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tal of all solutions:   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971640" y="2133720"/>
            <a:ext cx="7561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solve the crime, you need to use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BIDMA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09480" y="533520"/>
            <a:ext cx="71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re is an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d the value of:    2 + 3 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 + 3 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 2 +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 14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066680" y="2057400"/>
            <a:ext cx="71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You will have only 15 seconds to solve each clue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295280" y="297180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 3 + 4 x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11280" y="2971800"/>
            <a:ext cx="7632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  (3 + 4) x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2971800"/>
            <a:ext cx="82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5 +2 x 3 +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0920" y="2971800"/>
            <a:ext cx="82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(5 +2) x 3 +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1:23:12Z</dcterms:created>
  <dc:creator>Atcham</dc:creator>
  <dc:description/>
  <dc:language>en-US</dc:language>
  <cp:lastModifiedBy>Chris Kendrick</cp:lastModifiedBy>
  <dcterms:modified xsi:type="dcterms:W3CDTF">2012-11-08T11:59:06Z</dcterms:modified>
  <cp:revision>7</cp:revision>
  <dc:subject/>
  <dc:title>Slide 1</dc:title>
</cp:coreProperties>
</file>