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DEC-BEFF-4CF4-A451-C4D633E9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A20-7BB0-467F-B582-15FDEEAA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7C5-86A7-4F85-8EA2-28F6F75A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E7D-AF19-4E73-A88F-CD35A429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D31-9D0A-48AD-8B7A-85B7D746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1AE-8A7E-4515-9F78-82CEC64B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234-D781-451F-A2DD-C749EFBD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A03-195E-4798-B1EC-66114511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DAF-EE02-459C-A993-690BB7B6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AF6-7119-4B55-ADAC-77F73A80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DC2-AAEF-42E7-AA95-0C5EBF0E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F6F-CEDA-4A4A-85FD-F3AEB877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ed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75CE-3E86-4F32-9615-9BCC2DF8E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7 is a prime number as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37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37 is a prime number as it is only divisible by itself and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5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57 is not a prime number as it is divisible by 1, 3, 19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99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, 3, 9, 11, 33 and 99 are all factors of 9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Hand Of Sean"/>
              </a:rPr>
              <a:t>77 is a prime numbe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77 appears in the 7 and 11 times tabl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2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2 is the only even prime number –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1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9:51:13Z</dcterms:created>
  <dc:creator>MrsBell</dc:creator>
  <dc:description/>
  <dc:language>en-US</dc:language>
  <cp:lastModifiedBy>Kendrick</cp:lastModifiedBy>
  <dcterms:modified xsi:type="dcterms:W3CDTF">2012-10-04T09:16:29Z</dcterms:modified>
  <cp:revision>2</cp:revision>
  <dc:subject/>
  <dc:title>True or False?</dc:title>
</cp:coreProperties>
</file>