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9C4-70E6-4C74-97DB-7404D652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786-7575-4CC9-B7CD-781F109B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CED-3E4E-4D6B-BB80-8DBC87CD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368-FB40-4515-BF30-C8393242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216-6313-4612-8128-82E55938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2CA-5DAD-40D8-94CB-4BFB79E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93C-A2B7-4A9F-A41B-121D1CDE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9C4-19B9-48FD-8FA8-C2D18208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3E6-18CC-41A4-8116-21182F38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078-8BF5-45B2-9E1D-9A9387B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D13-A5D4-4556-B81C-FB1F662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241-BA49-468C-8DBE-C2066E1B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ed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4EA6-7CF4-4171-B4DB-EEAA4AFF9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7 is a prime number as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37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37 is a prime number as it is only divisible by itself and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5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57 is not a prime number as it is divisible by 1, 3, 19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99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1, 3, 9, 11, 33 and 99 are all factors of 99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Hand Of Sean"/>
              </a:rPr>
              <a:t>77 is a prime numbe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77 appears in the 7 and 11 times tabl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2 is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Hand Of Sean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Hand Of Sean"/>
              </a:rPr>
              <a:t>2 is the only even prime number – it is only divisible by 1 and it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Hand Of Sean"/>
              </a:rPr>
              <a:t>17 is not a prime numbe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Hand Of Sean"/>
              </a:rPr>
              <a:t>SHOW M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9:51:13Z</dcterms:created>
  <dc:creator>MrsBell</dc:creator>
  <dc:description/>
  <dc:language>en-US</dc:language>
  <cp:lastModifiedBy>Kendrick</cp:lastModifiedBy>
  <dcterms:modified xsi:type="dcterms:W3CDTF">2012-10-04T09:16:29Z</dcterms:modified>
  <cp:revision>2</cp:revision>
  <dc:subject/>
  <dc:title>True or False?</dc:title>
</cp:coreProperties>
</file>