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D2F-781F-4680-ACDF-B298C669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412-14A7-4A45-A0AA-1BFB5D22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B6E-7CC8-406E-ADF0-1C83AC10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444-B367-49BF-8F27-A7FFE039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399-5D6B-437C-A192-009BA5ED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E08-D49B-4658-B144-1389FEE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AB2-B8EA-4EAA-B86B-45CEA8A9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0D0-E05B-450F-A722-A72974B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AE7-3D87-457C-92C1-2BD50FE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2A6-764F-4BD2-AAE5-2479D337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F0B-EA32-4925-A348-ED4A004A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5FD-53F6-4DF0-940E-4548956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d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A86F-4D3B-4036-9216-98781A248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7 is a prime number as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37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37 is a prime number as it is only divisible by itself and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5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57 is not a prime number as it is divisible by 1, 3, 19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99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, 3, 9, 11, 33 and 99 are all factors of 9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Hand Of Sean"/>
              </a:rPr>
              <a:t>77 is a prime numb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77 appears in the 7 and 11 times tab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2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2 is the only even prime number –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1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9:51:13Z</dcterms:created>
  <dc:creator>MrsBell</dc:creator>
  <dc:description/>
  <dc:language>en-US</dc:language>
  <cp:lastModifiedBy>Kendrick</cp:lastModifiedBy>
  <dcterms:modified xsi:type="dcterms:W3CDTF">2012-10-04T09:16:29Z</dcterms:modified>
  <cp:revision>2</cp:revision>
  <dc:subject/>
  <dc:title>True or False?</dc:title>
</cp:coreProperties>
</file>