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B18-0F75-43DE-8164-DDA71270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E17-DFFA-493B-93A3-2AAE1C6B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405-E48A-4BA9-8749-BDC28E43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5C5-85A7-4D47-A91B-3BA1299B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465-E25F-4805-8AF2-8D82B225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54D-0DA2-4371-90DE-C85B8770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49C-A84E-4BA4-B226-E9ABBE51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508-ECBA-4FC3-AC5B-EF640436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901-5CE8-4211-8729-C4FB151F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59B-706F-47F9-9AD6-4131474F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416-33AE-4ADB-9B1B-8F8FC9D4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95D-0EBF-4EDA-AD57-6F0F409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ed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C531-7818-4F33-A4DD-D5055FF25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17 is a prime number as it is only divisible by 1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37 is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37 is a prime number as it is only divisible by itself and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57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57 is not a prime number as it is divisible by 1, 3, 19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99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1, 3, 9, 11, 33 and 99 are all factors of 9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0000"/>
                </a:solidFill>
                <a:latin typeface="Hand Of Sean"/>
              </a:rPr>
              <a:t>77 is a prime numbe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77 appears in the 7 and 11 times tabl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2 is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2 is the only even prime number – it is only divisible by 1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17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9:51:13Z</dcterms:created>
  <dc:creator>MrsBell</dc:creator>
  <dc:description/>
  <dc:language>en-US</dc:language>
  <cp:lastModifiedBy>Kendrick</cp:lastModifiedBy>
  <dcterms:modified xsi:type="dcterms:W3CDTF">2012-10-04T09:16:29Z</dcterms:modified>
  <cp:revision>2</cp:revision>
  <dc:subject/>
  <dc:title>True or False?</dc:title>
</cp:coreProperties>
</file>