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96C-F75C-4770-A660-058A33CA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8265-72FF-4A4B-9883-F4946746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4BC-5383-4C80-8BA0-C8E46EDA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501-9CF1-458C-B566-F080C38B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FC1-5418-44E9-B803-319D061B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D54-32C8-4346-BB58-E973FB09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F5A-B6C0-43A0-9225-051593B3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1F9-FCBC-46AD-A188-A65C82B2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1548-7928-4ED3-A263-ABD034C2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E86-5704-4905-925B-AC4C6E2F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C7B-8044-4925-B3FC-980E1B6A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C43-B1EF-40AC-B01B-C320BF4B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ed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DDC5-B04D-4E89-91B2-0453BDB22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FAL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17 is a prime number as it is only divisible by 1 and it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37 is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37 is a prime number as it is only divisible by itself and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57 is not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57 is not a prime number as it is divisible by 1, 3, 19 and it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99 is not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1, 3, 9, 11, 33 and 99 are all factors of 99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000000"/>
                </a:solidFill>
                <a:latin typeface="Hand Of Sean"/>
              </a:rPr>
              <a:t>77 is a prime numbe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FAL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77 appears in the 7 and 11 times tabl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2 is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2 is the only even prime number – it is only divisible by 1 and it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17 is not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9:51:13Z</dcterms:created>
  <dc:creator>MrsBell</dc:creator>
  <dc:description/>
  <dc:language>en-US</dc:language>
  <cp:lastModifiedBy>Kendrick</cp:lastModifiedBy>
  <dcterms:modified xsi:type="dcterms:W3CDTF">2012-10-04T09:16:29Z</dcterms:modified>
  <cp:revision>2</cp:revision>
  <dc:subject/>
  <dc:title>True or False?</dc:title>
</cp:coreProperties>
</file>