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016-558A-44C6-B28A-136C4DEC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773-8C4A-4140-92C4-9868FD84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FF9-6C11-469E-8A2A-D81F54EF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C05-BA47-43C6-B507-E56F255F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CAF-E18C-492D-B286-2271C23C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F6C-EA20-47D3-A7F4-A296D07E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17C-0A16-4FD5-999D-76575914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0BE-CF38-4579-86AD-D471178F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5EB-7AE4-488F-81D1-B7557614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959-D167-428D-AF6E-9720BBEF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066-25EC-4676-B7D7-5E699B51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91F-C9AF-4CE9-ACA7-8F027305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DA62-D9FA-4C39-AD3B-EECDF3489C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happens when we…</a:t>
            </a:r>
            <a:br>
              <a:rPr sz="5400"/>
            </a:br>
            <a:br>
              <a:rPr sz="20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d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ubtract </a:t>
            </a:r>
            <a:br>
              <a:rPr sz="2800"/>
            </a:br>
            <a:br>
              <a:rPr sz="6600"/>
            </a:b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Negative number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20480" y="259920"/>
            <a:ext cx="78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would like to introduce you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671920" y="206064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894040" y="465300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970080" y="357336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kid_clipart_boy"/>
          <p:cNvPicPr/>
          <p:nvPr/>
        </p:nvPicPr>
        <p:blipFill>
          <a:blip r:embed="rId1"/>
          <a:stretch/>
        </p:blipFill>
        <p:spPr>
          <a:xfrm>
            <a:off x="5867280" y="422100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5508720" y="1773360"/>
            <a:ext cx="212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5280" y="1628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d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me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g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nkey6"/>
          <p:cNvPicPr/>
          <p:nvPr/>
        </p:nvPicPr>
        <p:blipFill>
          <a:blip r:embed="rId1"/>
          <a:srcRect l="0" t="0" r="0" b="9165"/>
          <a:stretch/>
        </p:blipFill>
        <p:spPr>
          <a:xfrm>
            <a:off x="7308720" y="260280"/>
            <a:ext cx="1619280" cy="1536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-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3851280" y="357336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th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1800" y="2997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300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S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6851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btract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ffer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08000" y="3213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03640" y="3357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8 + -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3851280" y="3573360"/>
            <a:ext cx="136836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619280" y="4508640"/>
            <a:ext cx="71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signs in the middle, if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, then replace them wi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284720" y="2565360"/>
            <a:ext cx="107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kid_clipart_boy"/>
          <p:cNvPicPr/>
          <p:nvPr/>
        </p:nvPicPr>
        <p:blipFill>
          <a:blip r:embed="rId1"/>
          <a:stretch/>
        </p:blipFill>
        <p:spPr>
          <a:xfrm>
            <a:off x="7308720" y="189000"/>
            <a:ext cx="161928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6516720" y="3357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, who we do we need to help us work out these calcu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kid_clipart_boy"/>
          <p:cNvPicPr/>
          <p:nvPr/>
        </p:nvPicPr>
        <p:blipFill>
          <a:blip r:embed="rId1"/>
          <a:stretch/>
        </p:blipFill>
        <p:spPr>
          <a:xfrm>
            <a:off x="6588000" y="162864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1979640" y="1557360"/>
            <a:ext cx="2124000" cy="2016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024280" y="3429000"/>
            <a:ext cx="247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A S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91120" y="3357720"/>
            <a:ext cx="235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ahoma"/>
              </a:rPr>
              <a:t>S I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832280" y="2486160"/>
            <a:ext cx="69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692360" y="501336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6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364000" y="4981680"/>
            <a:ext cx="273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7 +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2 - </a:t>
            </a:r>
            <a:r>
              <a:rPr b="0" lang="en-GB" sz="5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922560" y="5877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924360" y="501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7885080" y="494172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885080" y="58770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 what about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70675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use all your knowledg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gative numbers so far to f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wer to these calc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419640" y="4005360"/>
            <a:ext cx="345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+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6  - </a:t>
            </a: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77080" y="4005360"/>
            <a:ext cx="97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250920" y="5734080"/>
            <a:ext cx="8675640" cy="934920"/>
            <a:chOff x="250920" y="5734080"/>
            <a:chExt cx="8675640" cy="934920"/>
          </a:xfrm>
        </p:grpSpPr>
        <p:sp>
          <p:nvSpPr>
            <p:cNvPr id="83" name="Line 10"/>
            <p:cNvSpPr/>
            <p:nvPr/>
          </p:nvSpPr>
          <p:spPr>
            <a:xfrm flipV="1">
              <a:off x="2700360" y="5734080"/>
              <a:ext cx="863640" cy="50328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250920" y="6237360"/>
              <a:ext cx="8675640" cy="431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member:  This is your start number and the new sign in the middle is the di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Oval 13"/>
          <p:cNvSpPr/>
          <p:nvPr/>
        </p:nvSpPr>
        <p:spPr>
          <a:xfrm>
            <a:off x="4356000" y="4221000"/>
            <a:ext cx="100800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16360" y="3500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4356000" y="5257800"/>
            <a:ext cx="1008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643280" y="472428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might happen when we multiply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4319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40000" y="2637000"/>
            <a:ext cx="352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 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x -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4437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bout ASS and SID - Can we use them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655960" y="2637000"/>
            <a:ext cx="10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kid_clipart_boy"/>
          <p:cNvPicPr/>
          <p:nvPr/>
        </p:nvPicPr>
        <p:blipFill>
          <a:blip r:embed="rId1"/>
          <a:stretch/>
        </p:blipFill>
        <p:spPr>
          <a:xfrm>
            <a:off x="7062840" y="2492280"/>
            <a:ext cx="1681200" cy="197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onkey6"/>
          <p:cNvPicPr/>
          <p:nvPr/>
        </p:nvPicPr>
        <p:blipFill>
          <a:blip r:embed="rId2"/>
          <a:srcRect l="0" t="0" r="0" b="9165"/>
          <a:stretch/>
        </p:blipFill>
        <p:spPr>
          <a:xfrm>
            <a:off x="324000" y="2581200"/>
            <a:ext cx="19443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through the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work in pair to check your answers – do you all agree? If not,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68360" y="2724120"/>
            <a:ext cx="49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you think you can work out how we divide negativ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9978" t="12733" r="9310" b="92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9:19:13Z</dcterms:created>
  <dc:creator>bev</dc:creator>
  <dc:description/>
  <dc:language>en-US</dc:language>
  <cp:lastModifiedBy>Chris Kendrick</cp:lastModifiedBy>
  <dcterms:modified xsi:type="dcterms:W3CDTF">2012-11-08T18:25:16Z</dcterms:modified>
  <cp:revision>6</cp:revision>
  <dc:subject/>
  <dc:title>Slide 1</dc:title>
</cp:coreProperties>
</file>