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25C-6E51-42E3-9432-12F13C52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F5C-6E50-49AD-92F6-96C2E9E3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4FD-1135-4D2B-92A3-26FE4415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25D-CABD-4C67-B1C2-42987D96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63E-182F-4858-B941-B5FD2285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CE7-B1B3-4850-AE4F-085ADA73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571-1B40-47C6-ACAE-755F93D7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DD1-4E53-423B-99F3-4C4EE897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347-E38D-4D6D-BBA5-B5893F61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498-81D7-4966-9846-025055C3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225-EB22-4845-8988-8D627C63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BC6-521F-4D9E-AACC-600BB589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2510-9888-4174-AAA1-6EF9086BBD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happens when we…</a:t>
            </a:r>
            <a:br>
              <a:rPr sz="5400"/>
            </a:br>
            <a:br>
              <a:rPr sz="20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Add 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ubtract </a:t>
            </a:r>
            <a:br>
              <a:rPr sz="2800"/>
            </a:br>
            <a:br>
              <a:rPr sz="6600"/>
            </a:b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Negative numb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20480" y="259920"/>
            <a:ext cx="78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would like to introduce you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2671920" y="2060640"/>
            <a:ext cx="24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A S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894040" y="465300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S I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970080" y="357336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kid_clipart_boy"/>
          <p:cNvPicPr/>
          <p:nvPr/>
        </p:nvPicPr>
        <p:blipFill>
          <a:blip r:embed="rId1"/>
          <a:stretch/>
        </p:blipFill>
        <p:spPr>
          <a:xfrm>
            <a:off x="5867280" y="422100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5508720" y="1773360"/>
            <a:ext cx="212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5280" y="1628280"/>
            <a:ext cx="685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d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me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g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0" y="3213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onkey6"/>
          <p:cNvPicPr/>
          <p:nvPr/>
        </p:nvPicPr>
        <p:blipFill>
          <a:blip r:embed="rId1"/>
          <a:srcRect l="0" t="0" r="0" b="9165"/>
          <a:stretch/>
        </p:blipFill>
        <p:spPr>
          <a:xfrm>
            <a:off x="7308720" y="260280"/>
            <a:ext cx="1619280" cy="1536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203640" y="3357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8 - -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3851280" y="3573360"/>
            <a:ext cx="100800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19280" y="4508640"/>
            <a:ext cx="71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signs in the middle, if they are th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then replace them with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1800" y="2997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300720" y="3357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S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685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btract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ffer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908000" y="3213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03640" y="3357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8 + -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3851280" y="3573360"/>
            <a:ext cx="136836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619280" y="4508640"/>
            <a:ext cx="71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signs in the middle, if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then replace them wi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284720" y="2565360"/>
            <a:ext cx="107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kid_clipart_boy"/>
          <p:cNvPicPr/>
          <p:nvPr/>
        </p:nvPicPr>
        <p:blipFill>
          <a:blip r:embed="rId1"/>
          <a:stretch/>
        </p:blipFill>
        <p:spPr>
          <a:xfrm>
            <a:off x="7308720" y="189000"/>
            <a:ext cx="1619280" cy="1904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6516720" y="3357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, who we do we need to help us work out these calcu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kid_clipart_boy"/>
          <p:cNvPicPr/>
          <p:nvPr/>
        </p:nvPicPr>
        <p:blipFill>
          <a:blip r:embed="rId1"/>
          <a:stretch/>
        </p:blipFill>
        <p:spPr>
          <a:xfrm>
            <a:off x="6588000" y="162864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1979640" y="1557360"/>
            <a:ext cx="2124000" cy="201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024280" y="3429000"/>
            <a:ext cx="24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A S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991120" y="335772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S I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832280" y="2486160"/>
            <a:ext cx="69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692360" y="501336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6 -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 +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364000" y="4981680"/>
            <a:ext cx="273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7 +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22 -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922560" y="5877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924360" y="501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7885080" y="494172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885080" y="58770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t what about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70675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use all your knowledg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gative numbers so far to fi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wer to these calcul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419640" y="4005360"/>
            <a:ext cx="345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6 +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6  -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77080" y="4005360"/>
            <a:ext cx="97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2"/>
          <p:cNvGrpSpPr/>
          <p:nvPr/>
        </p:nvGrpSpPr>
        <p:grpSpPr>
          <a:xfrm>
            <a:off x="250920" y="5734080"/>
            <a:ext cx="8675640" cy="934920"/>
            <a:chOff x="250920" y="5734080"/>
            <a:chExt cx="8675640" cy="934920"/>
          </a:xfrm>
        </p:grpSpPr>
        <p:sp>
          <p:nvSpPr>
            <p:cNvPr id="83" name="Line 10"/>
            <p:cNvSpPr/>
            <p:nvPr/>
          </p:nvSpPr>
          <p:spPr>
            <a:xfrm flipV="1">
              <a:off x="2700360" y="5734080"/>
              <a:ext cx="863640" cy="50328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250920" y="6237360"/>
              <a:ext cx="8675640" cy="431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member:  This is your start number and the new sign in the middle is the di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Oval 13"/>
          <p:cNvSpPr/>
          <p:nvPr/>
        </p:nvSpPr>
        <p:spPr>
          <a:xfrm>
            <a:off x="4356000" y="4221000"/>
            <a:ext cx="100800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16360" y="3500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4356000" y="5257800"/>
            <a:ext cx="10080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643280" y="472428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might happen when we multiply negativ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4319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340000" y="2637000"/>
            <a:ext cx="352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- 4 x -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x -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5280" y="4437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bout ASS and SID - Can we use them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655960" y="2637000"/>
            <a:ext cx="10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kid_clipart_boy"/>
          <p:cNvPicPr/>
          <p:nvPr/>
        </p:nvPicPr>
        <p:blipFill>
          <a:blip r:embed="rId1"/>
          <a:stretch/>
        </p:blipFill>
        <p:spPr>
          <a:xfrm>
            <a:off x="7062840" y="2492280"/>
            <a:ext cx="1681200" cy="197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324000" y="2581200"/>
            <a:ext cx="19443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through the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work in pair to check your answers – do you all agree? If not,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68360" y="2724120"/>
            <a:ext cx="49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you think you can work out how we divide negativ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9978" t="12733" r="9310" b="92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9:19:13Z</dcterms:created>
  <dc:creator>bev</dc:creator>
  <dc:description/>
  <dc:language>en-US</dc:language>
  <cp:lastModifiedBy>Chris Kendrick</cp:lastModifiedBy>
  <dcterms:modified xsi:type="dcterms:W3CDTF">2012-11-08T18:25:16Z</dcterms:modified>
  <cp:revision>6</cp:revision>
  <dc:subject/>
  <dc:title>Slide 1</dc:title>
</cp:coreProperties>
</file>