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8078-97CF-4C79-9105-352EEF7E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646C-DC26-447A-A4C4-08DA2BA2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46F6-C819-40B4-A7F2-4A6633BE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3BC3-35AE-4939-8192-2A416B78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A8E1-54F9-437E-84F6-C639829D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E8E4-5FEB-430B-8675-61BC28C5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AD8B-1D5B-4688-94E9-2A8924C7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6A63-AE6F-4E63-B959-B7C35AF5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1BD8-0737-4C67-8356-80B08CB9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9B3F-0309-449F-8971-540F3050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A2E6-BCB5-422D-9189-2D61AB09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8C58-12A9-412B-BA53-FF22119B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C463-5862-457C-8E8A-5AFC6B9CA8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667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What happens when we…</a:t>
            </a:r>
            <a:br>
              <a:rPr sz="5400"/>
            </a:br>
            <a:br>
              <a:rPr sz="2000"/>
            </a:b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Add </a:t>
            </a:r>
            <a:br>
              <a:rPr sz="6600"/>
            </a:b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6600"/>
            </a:b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Subtract </a:t>
            </a:r>
            <a:br>
              <a:rPr sz="2800"/>
            </a:br>
            <a:br>
              <a:rPr sz="6600"/>
            </a:b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Negative number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20480" y="259920"/>
            <a:ext cx="78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 would like to introduce you t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2671920" y="2060640"/>
            <a:ext cx="247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ahoma"/>
              </a:rPr>
              <a:t>A S 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2894040" y="4653000"/>
            <a:ext cx="235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ahoma"/>
              </a:rPr>
              <a:t>S I 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970080" y="3573360"/>
            <a:ext cx="8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6" descr="kid_clipart_boy"/>
          <p:cNvPicPr/>
          <p:nvPr/>
        </p:nvPicPr>
        <p:blipFill>
          <a:blip r:embed="rId1"/>
          <a:stretch/>
        </p:blipFill>
        <p:spPr>
          <a:xfrm>
            <a:off x="5867280" y="4221000"/>
            <a:ext cx="161928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donkey6"/>
          <p:cNvPicPr/>
          <p:nvPr/>
        </p:nvPicPr>
        <p:blipFill>
          <a:blip r:embed="rId2"/>
          <a:srcRect l="0" t="0" r="0" b="9165"/>
          <a:stretch/>
        </p:blipFill>
        <p:spPr>
          <a:xfrm>
            <a:off x="5508720" y="1773360"/>
            <a:ext cx="2124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491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35280" y="1628280"/>
            <a:ext cx="68515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dd  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ame  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ig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908000" y="321300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donkey6"/>
          <p:cNvPicPr/>
          <p:nvPr/>
        </p:nvPicPr>
        <p:blipFill>
          <a:blip r:embed="rId1"/>
          <a:srcRect l="0" t="0" r="0" b="9165"/>
          <a:stretch/>
        </p:blipFill>
        <p:spPr>
          <a:xfrm>
            <a:off x="7308720" y="260280"/>
            <a:ext cx="1619280" cy="1536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3203640" y="335772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ahoma"/>
              </a:rPr>
              <a:t>8 - -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3851280" y="3573360"/>
            <a:ext cx="100800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19280" y="4508640"/>
            <a:ext cx="718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ok at the signs in the middle, if they are the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, then replace them with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141800" y="2997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6300720" y="335772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491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S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35280" y="1844280"/>
            <a:ext cx="68515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ubtract  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iffer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908000" y="321300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203640" y="335772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ahoma"/>
              </a:rPr>
              <a:t>8 + -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7"/>
          <p:cNvSpPr/>
          <p:nvPr/>
        </p:nvSpPr>
        <p:spPr>
          <a:xfrm>
            <a:off x="3851280" y="3573360"/>
            <a:ext cx="136836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619280" y="4508640"/>
            <a:ext cx="718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ok at the signs in the middle, if they are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, then replace them with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284720" y="2565360"/>
            <a:ext cx="107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kid_clipart_boy"/>
          <p:cNvPicPr/>
          <p:nvPr/>
        </p:nvPicPr>
        <p:blipFill>
          <a:blip r:embed="rId1"/>
          <a:stretch/>
        </p:blipFill>
        <p:spPr>
          <a:xfrm>
            <a:off x="7308720" y="189000"/>
            <a:ext cx="1619280" cy="19047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1"/>
          <p:cNvSpPr/>
          <p:nvPr/>
        </p:nvSpPr>
        <p:spPr>
          <a:xfrm>
            <a:off x="6516720" y="335772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, who we do we need to help us work out these calcul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kid_clipart_boy"/>
          <p:cNvPicPr/>
          <p:nvPr/>
        </p:nvPicPr>
        <p:blipFill>
          <a:blip r:embed="rId1"/>
          <a:stretch/>
        </p:blipFill>
        <p:spPr>
          <a:xfrm>
            <a:off x="6588000" y="1628640"/>
            <a:ext cx="1619280" cy="1905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donkey6"/>
          <p:cNvPicPr/>
          <p:nvPr/>
        </p:nvPicPr>
        <p:blipFill>
          <a:blip r:embed="rId2"/>
          <a:srcRect l="0" t="0" r="0" b="9165"/>
          <a:stretch/>
        </p:blipFill>
        <p:spPr>
          <a:xfrm>
            <a:off x="1979640" y="1557360"/>
            <a:ext cx="2124000" cy="2016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2024280" y="3429000"/>
            <a:ext cx="247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ahoma"/>
              </a:rPr>
              <a:t>A S 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991120" y="3357720"/>
            <a:ext cx="235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ahoma"/>
              </a:rPr>
              <a:t>S I 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4832280" y="2486160"/>
            <a:ext cx="69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692360" y="5013360"/>
            <a:ext cx="273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6 - </a:t>
            </a:r>
            <a:r>
              <a:rPr b="0" lang="en-GB" sz="5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4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 + </a:t>
            </a:r>
            <a:r>
              <a:rPr b="0" lang="en-GB" sz="5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5364000" y="4981680"/>
            <a:ext cx="273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7 + </a:t>
            </a:r>
            <a:r>
              <a:rPr b="0" lang="en-GB" sz="5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4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22 - </a:t>
            </a:r>
            <a:r>
              <a:rPr b="0" lang="en-GB" sz="5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3922560" y="5877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3924360" y="501336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7885080" y="4941720"/>
            <a:ext cx="10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7885080" y="5877000"/>
            <a:ext cx="10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ut what about this 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19280" y="1628280"/>
            <a:ext cx="70675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use all your knowledg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gative numbers so far to fi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wer to these calcul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419640" y="4005360"/>
            <a:ext cx="345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6 + </a:t>
            </a:r>
            <a:r>
              <a:rPr b="0" lang="en-GB" sz="6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2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6  - </a:t>
            </a:r>
            <a:r>
              <a:rPr b="0" lang="en-GB" sz="6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8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6877080" y="4005360"/>
            <a:ext cx="97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2"/>
          <p:cNvGrpSpPr/>
          <p:nvPr/>
        </p:nvGrpSpPr>
        <p:grpSpPr>
          <a:xfrm>
            <a:off x="250920" y="5734080"/>
            <a:ext cx="8675640" cy="934920"/>
            <a:chOff x="250920" y="5734080"/>
            <a:chExt cx="8675640" cy="934920"/>
          </a:xfrm>
        </p:grpSpPr>
        <p:sp>
          <p:nvSpPr>
            <p:cNvPr id="83" name="Line 10"/>
            <p:cNvSpPr/>
            <p:nvPr/>
          </p:nvSpPr>
          <p:spPr>
            <a:xfrm flipV="1">
              <a:off x="2700360" y="5734080"/>
              <a:ext cx="863640" cy="50328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1"/>
            <p:cNvSpPr/>
            <p:nvPr/>
          </p:nvSpPr>
          <p:spPr>
            <a:xfrm>
              <a:off x="250920" y="6237360"/>
              <a:ext cx="8675640" cy="431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member:  This is your start number and the new sign in the middle is the dir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Oval 13"/>
          <p:cNvSpPr/>
          <p:nvPr/>
        </p:nvSpPr>
        <p:spPr>
          <a:xfrm>
            <a:off x="4356000" y="4221000"/>
            <a:ext cx="100800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4716360" y="35002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5"/>
          <p:cNvSpPr/>
          <p:nvPr/>
        </p:nvSpPr>
        <p:spPr>
          <a:xfrm>
            <a:off x="4356000" y="5257800"/>
            <a:ext cx="10080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4643280" y="4724280"/>
            <a:ext cx="5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think might happen when we multiply negative numb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43196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340000" y="2637000"/>
            <a:ext cx="3527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- 4 x - 3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 x - 3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95280" y="443700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bout ASS and SID - Can we use them ag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655960" y="2637000"/>
            <a:ext cx="10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kid_clipart_boy"/>
          <p:cNvPicPr/>
          <p:nvPr/>
        </p:nvPicPr>
        <p:blipFill>
          <a:blip r:embed="rId1"/>
          <a:stretch/>
        </p:blipFill>
        <p:spPr>
          <a:xfrm>
            <a:off x="7062840" y="2492280"/>
            <a:ext cx="1681200" cy="1978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donkey6"/>
          <p:cNvPicPr/>
          <p:nvPr/>
        </p:nvPicPr>
        <p:blipFill>
          <a:blip r:embed="rId2"/>
          <a:srcRect l="0" t="0" r="0" b="9165"/>
          <a:stretch/>
        </p:blipFill>
        <p:spPr>
          <a:xfrm>
            <a:off x="324000" y="2581200"/>
            <a:ext cx="194436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through the 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work in pair to check your answers – do you all agree? If not, why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268360" y="2724120"/>
            <a:ext cx="496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 you think you can work out how we divide negative numb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9978" t="12733" r="9310" b="92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09:19:13Z</dcterms:created>
  <dc:creator>bev</dc:creator>
  <dc:description/>
  <dc:language>en-US</dc:language>
  <cp:lastModifiedBy>Chris Kendrick</cp:lastModifiedBy>
  <dcterms:modified xsi:type="dcterms:W3CDTF">2012-11-08T18:25:16Z</dcterms:modified>
  <cp:revision>6</cp:revision>
  <dc:subject/>
  <dc:title>Slide 1</dc:title>
</cp:coreProperties>
</file>