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657-7AFD-4B88-AD3A-F539C727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4D2-16CA-4851-922D-224EEC71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B7A-D8C9-419C-B21D-29F087A6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270-9552-4A57-81C9-C103AFED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883-E52F-44FD-9752-A31C04D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9EC-C78D-407D-9C2E-6FA5DCF0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F52-A3F7-4D74-A249-9F33EAA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0D9-FA8C-467A-8177-6B1BDB68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31A-74EE-4B0F-948F-4E9C25A0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76A-74E8-4BDA-8AF6-45E4C7D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24C-8195-4B4D-AAE4-7A7E70F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E9D-1D26-4E54-941D-05205261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2C6F-A64A-4A1A-A4FF-063607DCD1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happens when we…</a:t>
            </a:r>
            <a:br>
              <a:rPr sz="5400"/>
            </a:br>
            <a:br>
              <a:rPr sz="20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d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ubtract </a:t>
            </a:r>
            <a:br>
              <a:rPr sz="2800"/>
            </a:br>
            <a:br>
              <a:rPr sz="6600"/>
            </a:b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Negative numb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0480" y="259920"/>
            <a:ext cx="78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ould like to introduce you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671920" y="206064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94040" y="465300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970080" y="357336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id_clipart_boy"/>
          <p:cNvPicPr/>
          <p:nvPr/>
        </p:nvPicPr>
        <p:blipFill>
          <a:blip r:embed="rId1"/>
          <a:stretch/>
        </p:blipFill>
        <p:spPr>
          <a:xfrm>
            <a:off x="5867280" y="422100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5508720" y="1773360"/>
            <a:ext cx="21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1628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d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me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nkey6"/>
          <p:cNvPicPr/>
          <p:nvPr/>
        </p:nvPicPr>
        <p:blipFill>
          <a:blip r:embed="rId1"/>
          <a:srcRect l="0" t="0" r="0" b="9165"/>
          <a:stretch/>
        </p:blipFill>
        <p:spPr>
          <a:xfrm>
            <a:off x="7308720" y="260280"/>
            <a:ext cx="1619280" cy="1536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-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851280" y="357336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th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1800" y="2997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300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btract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ffer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+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3851280" y="3573360"/>
            <a:ext cx="136836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284720" y="2565360"/>
            <a:ext cx="107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kid_clipart_boy"/>
          <p:cNvPicPr/>
          <p:nvPr/>
        </p:nvPicPr>
        <p:blipFill>
          <a:blip r:embed="rId1"/>
          <a:stretch/>
        </p:blipFill>
        <p:spPr>
          <a:xfrm>
            <a:off x="7308720" y="189000"/>
            <a:ext cx="161928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6516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, who we do we need to help us work out these calcu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kid_clipart_boy"/>
          <p:cNvPicPr/>
          <p:nvPr/>
        </p:nvPicPr>
        <p:blipFill>
          <a:blip r:embed="rId1"/>
          <a:stretch/>
        </p:blipFill>
        <p:spPr>
          <a:xfrm>
            <a:off x="6588000" y="162864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1979640" y="1557360"/>
            <a:ext cx="2124000" cy="201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024280" y="342900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91120" y="335772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832280" y="2486160"/>
            <a:ext cx="69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692360" y="501336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6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364000" y="4981680"/>
            <a:ext cx="273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7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2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922560" y="5877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924360" y="501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885080" y="494172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885080" y="58770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70675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use all your knowledg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gative numbers so far to f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to these calc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19640" y="4005360"/>
            <a:ext cx="345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 -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77080" y="4005360"/>
            <a:ext cx="9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250920" y="5734080"/>
            <a:ext cx="8675640" cy="934920"/>
            <a:chOff x="250920" y="5734080"/>
            <a:chExt cx="8675640" cy="934920"/>
          </a:xfrm>
        </p:grpSpPr>
        <p:sp>
          <p:nvSpPr>
            <p:cNvPr id="83" name="Line 10"/>
            <p:cNvSpPr/>
            <p:nvPr/>
          </p:nvSpPr>
          <p:spPr>
            <a:xfrm flipV="1">
              <a:off x="2700360" y="5734080"/>
              <a:ext cx="863640" cy="5032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250920" y="6237360"/>
              <a:ext cx="8675640" cy="431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member:  This is your start number and the new sign in the middle is the 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13"/>
          <p:cNvSpPr/>
          <p:nvPr/>
        </p:nvSpPr>
        <p:spPr>
          <a:xfrm>
            <a:off x="4356000" y="422100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16360" y="3500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4356000" y="5257800"/>
            <a:ext cx="1008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43280" y="472428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might happen when we multiply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4319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40000" y="2637000"/>
            <a:ext cx="352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 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44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ASS and SID - Can we use them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655960" y="2637000"/>
            <a:ext cx="10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kid_clipart_boy"/>
          <p:cNvPicPr/>
          <p:nvPr/>
        </p:nvPicPr>
        <p:blipFill>
          <a:blip r:embed="rId1"/>
          <a:stretch/>
        </p:blipFill>
        <p:spPr>
          <a:xfrm>
            <a:off x="7062840" y="2492280"/>
            <a:ext cx="1681200" cy="197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324000" y="2581200"/>
            <a:ext cx="19443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through the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work in pair to check your answers – do you all agree? If not,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68360" y="2724120"/>
            <a:ext cx="49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you think you can work out how we divide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9978" t="12733" r="9310" b="92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9:19:13Z</dcterms:created>
  <dc:creator>bev</dc:creator>
  <dc:description/>
  <dc:language>en-US</dc:language>
  <cp:lastModifiedBy>Chris Kendrick</cp:lastModifiedBy>
  <dcterms:modified xsi:type="dcterms:W3CDTF">2012-11-08T18:25:16Z</dcterms:modified>
  <cp:revision>6</cp:revision>
  <dc:subject/>
  <dc:title>Slide 1</dc:title>
</cp:coreProperties>
</file>