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16B1-50CA-4135-8634-0A5A9182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0EF4-26A2-4A43-BBC9-36BE7389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5C8B-FAF9-4F1F-A341-2F75C777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606C-A5AD-4FA9-ADF6-713544BC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2A11-17E6-478A-A601-984CB516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10BB-7B7A-4C3C-9CC6-96F8AF61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3377-0126-449D-8310-C612BD02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322D-9179-4F9F-81B9-71CAAC9B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CF2-59ED-4E7F-887F-06782D1A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081E-A679-460F-810A-4CCC339B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4E7F-1708-47D7-9DC5-CC8B36FD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606A-37F7-442F-818E-5C47842F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0D3F-811A-41F6-8DB6-DA70777EB9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What happens when we…</a:t>
            </a:r>
            <a:br>
              <a:rPr sz="5400"/>
            </a:br>
            <a:br>
              <a:rPr sz="2000"/>
            </a:b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Add </a:t>
            </a: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Subtract </a:t>
            </a:r>
            <a:br>
              <a:rPr sz="2800"/>
            </a:br>
            <a:br>
              <a:rPr sz="6600"/>
            </a:b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Negative number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20480" y="259920"/>
            <a:ext cx="78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 would like to introduce you t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2671920" y="2060640"/>
            <a:ext cx="247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ahoma"/>
              </a:rPr>
              <a:t>A S 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2894040" y="4653000"/>
            <a:ext cx="235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ahoma"/>
              </a:rPr>
              <a:t>S I 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970080" y="3573360"/>
            <a:ext cx="8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6" descr="kid_clipart_boy"/>
          <p:cNvPicPr/>
          <p:nvPr/>
        </p:nvPicPr>
        <p:blipFill>
          <a:blip r:embed="rId1"/>
          <a:stretch/>
        </p:blipFill>
        <p:spPr>
          <a:xfrm>
            <a:off x="5867280" y="4221000"/>
            <a:ext cx="161928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donkey6"/>
          <p:cNvPicPr/>
          <p:nvPr/>
        </p:nvPicPr>
        <p:blipFill>
          <a:blip r:embed="rId2"/>
          <a:srcRect l="0" t="0" r="0" b="9165"/>
          <a:stretch/>
        </p:blipFill>
        <p:spPr>
          <a:xfrm>
            <a:off x="5508720" y="1773360"/>
            <a:ext cx="2124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491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35280" y="1628280"/>
            <a:ext cx="6851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dd 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ame 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g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908000" y="321300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onkey6"/>
          <p:cNvPicPr/>
          <p:nvPr/>
        </p:nvPicPr>
        <p:blipFill>
          <a:blip r:embed="rId1"/>
          <a:srcRect l="0" t="0" r="0" b="9165"/>
          <a:stretch/>
        </p:blipFill>
        <p:spPr>
          <a:xfrm>
            <a:off x="7308720" y="260280"/>
            <a:ext cx="1619280" cy="1536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3203640" y="335772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ahoma"/>
              </a:rPr>
              <a:t>8 - -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3851280" y="3573360"/>
            <a:ext cx="100800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19280" y="4508640"/>
            <a:ext cx="71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 at the signs in the middle, if they are the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, then replace them with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141800" y="2997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300720" y="335772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491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S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35280" y="1844280"/>
            <a:ext cx="6851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ubtract 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ffer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908000" y="321300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203640" y="335772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ahoma"/>
              </a:rPr>
              <a:t>8 + -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7"/>
          <p:cNvSpPr/>
          <p:nvPr/>
        </p:nvSpPr>
        <p:spPr>
          <a:xfrm>
            <a:off x="3851280" y="3573360"/>
            <a:ext cx="136836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619280" y="4508640"/>
            <a:ext cx="71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 at the signs in the middle, if they are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, then replace them with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284720" y="2565360"/>
            <a:ext cx="107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kid_clipart_boy"/>
          <p:cNvPicPr/>
          <p:nvPr/>
        </p:nvPicPr>
        <p:blipFill>
          <a:blip r:embed="rId1"/>
          <a:stretch/>
        </p:blipFill>
        <p:spPr>
          <a:xfrm>
            <a:off x="7308720" y="189000"/>
            <a:ext cx="1619280" cy="19047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1"/>
          <p:cNvSpPr/>
          <p:nvPr/>
        </p:nvSpPr>
        <p:spPr>
          <a:xfrm>
            <a:off x="6516720" y="335772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, who we do we need to help us work out these calcul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kid_clipart_boy"/>
          <p:cNvPicPr/>
          <p:nvPr/>
        </p:nvPicPr>
        <p:blipFill>
          <a:blip r:embed="rId1"/>
          <a:stretch/>
        </p:blipFill>
        <p:spPr>
          <a:xfrm>
            <a:off x="6588000" y="1628640"/>
            <a:ext cx="1619280" cy="1905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donkey6"/>
          <p:cNvPicPr/>
          <p:nvPr/>
        </p:nvPicPr>
        <p:blipFill>
          <a:blip r:embed="rId2"/>
          <a:srcRect l="0" t="0" r="0" b="9165"/>
          <a:stretch/>
        </p:blipFill>
        <p:spPr>
          <a:xfrm>
            <a:off x="1979640" y="1557360"/>
            <a:ext cx="2124000" cy="2016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2024280" y="3429000"/>
            <a:ext cx="247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ahoma"/>
              </a:rPr>
              <a:t>A S 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991120" y="3357720"/>
            <a:ext cx="235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ahoma"/>
              </a:rPr>
              <a:t>S I 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4832280" y="2486160"/>
            <a:ext cx="69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692360" y="501336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6 - </a:t>
            </a:r>
            <a:r>
              <a:rPr b="0" lang="en-GB" sz="5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4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 + </a:t>
            </a:r>
            <a:r>
              <a:rPr b="0" lang="en-GB" sz="5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5364000" y="4981680"/>
            <a:ext cx="273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7 + </a:t>
            </a:r>
            <a:r>
              <a:rPr b="0" lang="en-GB" sz="5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4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22 - </a:t>
            </a:r>
            <a:r>
              <a:rPr b="0" lang="en-GB" sz="5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3922560" y="5877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3924360" y="5013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7885080" y="4941720"/>
            <a:ext cx="10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7885080" y="5877000"/>
            <a:ext cx="10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ut what about this 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19280" y="1628280"/>
            <a:ext cx="70675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use all your knowledg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gative numbers so far to fi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wer to these calcul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419640" y="4005360"/>
            <a:ext cx="345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6 + </a:t>
            </a: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2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6  - </a:t>
            </a: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8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6877080" y="4005360"/>
            <a:ext cx="97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2"/>
          <p:cNvGrpSpPr/>
          <p:nvPr/>
        </p:nvGrpSpPr>
        <p:grpSpPr>
          <a:xfrm>
            <a:off x="250920" y="5734080"/>
            <a:ext cx="8675640" cy="934920"/>
            <a:chOff x="250920" y="5734080"/>
            <a:chExt cx="8675640" cy="934920"/>
          </a:xfrm>
        </p:grpSpPr>
        <p:sp>
          <p:nvSpPr>
            <p:cNvPr id="83" name="Line 10"/>
            <p:cNvSpPr/>
            <p:nvPr/>
          </p:nvSpPr>
          <p:spPr>
            <a:xfrm flipV="1">
              <a:off x="2700360" y="5734080"/>
              <a:ext cx="863640" cy="50328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1"/>
            <p:cNvSpPr/>
            <p:nvPr/>
          </p:nvSpPr>
          <p:spPr>
            <a:xfrm>
              <a:off x="250920" y="6237360"/>
              <a:ext cx="8675640" cy="431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member:  This is your start number and the new sign in the middle is the dir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Oval 13"/>
          <p:cNvSpPr/>
          <p:nvPr/>
        </p:nvSpPr>
        <p:spPr>
          <a:xfrm>
            <a:off x="4356000" y="4221000"/>
            <a:ext cx="100800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4716360" y="35002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5"/>
          <p:cNvSpPr/>
          <p:nvPr/>
        </p:nvSpPr>
        <p:spPr>
          <a:xfrm>
            <a:off x="4356000" y="5257800"/>
            <a:ext cx="10080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643280" y="4724280"/>
            <a:ext cx="5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think might happen when we multiply negative numb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43196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340000" y="2637000"/>
            <a:ext cx="3527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- 4 x - 3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 x - 3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95280" y="44370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bout ASS and SID - Can we use them ag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655960" y="2637000"/>
            <a:ext cx="10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kid_clipart_boy"/>
          <p:cNvPicPr/>
          <p:nvPr/>
        </p:nvPicPr>
        <p:blipFill>
          <a:blip r:embed="rId1"/>
          <a:stretch/>
        </p:blipFill>
        <p:spPr>
          <a:xfrm>
            <a:off x="7062840" y="2492280"/>
            <a:ext cx="1681200" cy="1978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donkey6"/>
          <p:cNvPicPr/>
          <p:nvPr/>
        </p:nvPicPr>
        <p:blipFill>
          <a:blip r:embed="rId2"/>
          <a:srcRect l="0" t="0" r="0" b="9165"/>
          <a:stretch/>
        </p:blipFill>
        <p:spPr>
          <a:xfrm>
            <a:off x="324000" y="2581200"/>
            <a:ext cx="19443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through the 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work in pair to check your answers – do you all agree? If not, why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268360" y="2724120"/>
            <a:ext cx="496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 you think you can work out how we divide negative numb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9978" t="12733" r="9310" b="92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09:19:13Z</dcterms:created>
  <dc:creator>bev</dc:creator>
  <dc:description/>
  <dc:language>en-US</dc:language>
  <cp:lastModifiedBy>Chris Kendrick</cp:lastModifiedBy>
  <dcterms:modified xsi:type="dcterms:W3CDTF">2012-11-08T18:25:16Z</dcterms:modified>
  <cp:revision>6</cp:revision>
  <dc:subject/>
  <dc:title>Slide 1</dc:title>
</cp:coreProperties>
</file>