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3A2-CBCD-445A-8316-E82C4D9D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08B2-BE69-4287-8879-BCAB4113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53B-B9EE-480B-8A3B-ABC962E9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F5B-EF88-422A-8F99-01BFBCE6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05E-7DE0-4258-B958-F3620B9B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730-A6FE-4BC0-B651-A0CE9BB7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C44-25E0-4338-B3B4-16A2C4F8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CF9-2ABA-435D-A6AF-7FC0A029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2B9-08C2-4313-B069-847B7BC9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678-2305-46EB-9472-68EF4E47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CBC-F54B-4A7E-BE35-D82A3470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ACE-91C1-43E6-829B-1F8B2A3C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9B4B-F8BC-4499-9E75-0CFB26D7DF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happens when we…</a:t>
            </a:r>
            <a:br>
              <a:rPr sz="5400"/>
            </a:br>
            <a:br>
              <a:rPr sz="20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Add 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ubtract </a:t>
            </a:r>
            <a:br>
              <a:rPr sz="2800"/>
            </a:br>
            <a:br>
              <a:rPr sz="6600"/>
            </a:b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Negative numb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20480" y="259920"/>
            <a:ext cx="78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would like to introduce you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2671920" y="2060640"/>
            <a:ext cx="247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A S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894040" y="465300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S I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970080" y="357336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kid_clipart_boy"/>
          <p:cNvPicPr/>
          <p:nvPr/>
        </p:nvPicPr>
        <p:blipFill>
          <a:blip r:embed="rId1"/>
          <a:stretch/>
        </p:blipFill>
        <p:spPr>
          <a:xfrm>
            <a:off x="5867280" y="422100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5508720" y="1773360"/>
            <a:ext cx="212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5280" y="1628280"/>
            <a:ext cx="685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d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me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g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0" y="3213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onkey6"/>
          <p:cNvPicPr/>
          <p:nvPr/>
        </p:nvPicPr>
        <p:blipFill>
          <a:blip r:embed="rId1"/>
          <a:srcRect l="0" t="0" r="0" b="9165"/>
          <a:stretch/>
        </p:blipFill>
        <p:spPr>
          <a:xfrm>
            <a:off x="7308720" y="260280"/>
            <a:ext cx="1619280" cy="1536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203640" y="3357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8 - -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3851280" y="3573360"/>
            <a:ext cx="100800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19280" y="4508640"/>
            <a:ext cx="71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signs in the middle, if they are th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then replace them with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1800" y="2997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300720" y="3357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S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685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btract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ffer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908000" y="3213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03640" y="3357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8 + -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7"/>
          <p:cNvSpPr/>
          <p:nvPr/>
        </p:nvSpPr>
        <p:spPr>
          <a:xfrm>
            <a:off x="3851280" y="3573360"/>
            <a:ext cx="136836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619280" y="4508640"/>
            <a:ext cx="71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signs in the middle, if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then replace them wi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284720" y="2565360"/>
            <a:ext cx="107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kid_clipart_boy"/>
          <p:cNvPicPr/>
          <p:nvPr/>
        </p:nvPicPr>
        <p:blipFill>
          <a:blip r:embed="rId1"/>
          <a:stretch/>
        </p:blipFill>
        <p:spPr>
          <a:xfrm>
            <a:off x="7308720" y="189000"/>
            <a:ext cx="1619280" cy="1904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6516720" y="3357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, who we do we need to help us work out these calcu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kid_clipart_boy"/>
          <p:cNvPicPr/>
          <p:nvPr/>
        </p:nvPicPr>
        <p:blipFill>
          <a:blip r:embed="rId1"/>
          <a:stretch/>
        </p:blipFill>
        <p:spPr>
          <a:xfrm>
            <a:off x="6588000" y="162864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1979640" y="1557360"/>
            <a:ext cx="2124000" cy="2016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024280" y="3429000"/>
            <a:ext cx="247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A S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991120" y="335772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S I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832280" y="2486160"/>
            <a:ext cx="69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692360" y="501336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6 -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 +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364000" y="4981680"/>
            <a:ext cx="273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7 +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22 -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922560" y="5877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924360" y="501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7885080" y="494172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7885080" y="58770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t what about this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70675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use all your knowledg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gative numbers so far to fi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wer to these calcul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419640" y="4005360"/>
            <a:ext cx="345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6 + </a:t>
            </a: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6  - </a:t>
            </a: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8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77080" y="4005360"/>
            <a:ext cx="97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2"/>
          <p:cNvGrpSpPr/>
          <p:nvPr/>
        </p:nvGrpSpPr>
        <p:grpSpPr>
          <a:xfrm>
            <a:off x="250920" y="5734080"/>
            <a:ext cx="8675640" cy="934920"/>
            <a:chOff x="250920" y="5734080"/>
            <a:chExt cx="8675640" cy="934920"/>
          </a:xfrm>
        </p:grpSpPr>
        <p:sp>
          <p:nvSpPr>
            <p:cNvPr id="83" name="Line 10"/>
            <p:cNvSpPr/>
            <p:nvPr/>
          </p:nvSpPr>
          <p:spPr>
            <a:xfrm flipV="1">
              <a:off x="2700360" y="5734080"/>
              <a:ext cx="863640" cy="50328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250920" y="6237360"/>
              <a:ext cx="8675640" cy="431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member:  This is your start number and the new sign in the middle is the di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Oval 13"/>
          <p:cNvSpPr/>
          <p:nvPr/>
        </p:nvSpPr>
        <p:spPr>
          <a:xfrm>
            <a:off x="4356000" y="4221000"/>
            <a:ext cx="100800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16360" y="3500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4356000" y="5257800"/>
            <a:ext cx="10080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643280" y="472428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might happen when we multiply negativ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43196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340000" y="2637000"/>
            <a:ext cx="352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- 4 x -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x -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5280" y="4437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bout ASS and SID - Can we use them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655960" y="2637000"/>
            <a:ext cx="10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kid_clipart_boy"/>
          <p:cNvPicPr/>
          <p:nvPr/>
        </p:nvPicPr>
        <p:blipFill>
          <a:blip r:embed="rId1"/>
          <a:stretch/>
        </p:blipFill>
        <p:spPr>
          <a:xfrm>
            <a:off x="7062840" y="2492280"/>
            <a:ext cx="1681200" cy="197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324000" y="2581200"/>
            <a:ext cx="19443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through the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work in pair to check your answers – do you all agree? If not,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68360" y="2724120"/>
            <a:ext cx="49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you think you can work out how we divide negativ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9978" t="12733" r="9310" b="92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9:19:13Z</dcterms:created>
  <dc:creator>bev</dc:creator>
  <dc:description/>
  <dc:language>en-US</dc:language>
  <cp:lastModifiedBy>Chris Kendrick</cp:lastModifiedBy>
  <dcterms:modified xsi:type="dcterms:W3CDTF">2012-11-08T18:25:16Z</dcterms:modified>
  <cp:revision>6</cp:revision>
  <dc:subject/>
  <dc:title>Slide 1</dc:title>
</cp:coreProperties>
</file>