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move the slid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BFBE-1541-4EED-8AE9-962EB45798C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AA71-4E05-4845-87AF-D4390879F6D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D570-D768-4A72-BEC9-E281F0A6570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E4DA-FD58-47B2-B9C8-D2DEFB87738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BC60-7E56-4366-990D-38DFBE1EA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627E-D68E-436B-82F8-119C2B85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506C-DE87-4980-944C-39FA8E9EA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692D-562A-42D6-BB12-1D5EE7B23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F6E6-7632-4524-B32D-8118B9447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D6F7-0ED1-43C3-B09B-5A212F3A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2FCD-7C78-4FAB-ABBB-4428CC02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D80C-C673-46D7-A6D6-93F82E94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5C2C-E5D0-41E9-925F-4799C261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1F185-82A7-41DD-892D-9EA98439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301F-0490-4142-BB29-3C80745B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38BD-FDE8-4DAF-8853-B4BFD452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B5BA-F7CB-4F5A-9553-7696DC80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B319-94CA-4C6F-80EC-8885B4F6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1767-8C2B-4955-A369-F0804A46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2947-7848-4022-AA46-D372B2691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C942-DEEF-4988-830A-B731BBD86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C11E-535B-4554-98BF-07E3335B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F2E9-E169-4096-AB1A-5429FC2F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B960-A070-4F92-B905-97B18D66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5696-7F7E-40C8-9F77-9B5C9AE7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774F-DC2D-4D24-82A6-F1E56CFC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5977-D7C4-4CBD-BD76-995D5B1A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723E-7C56-4B6B-A546-3E3C3043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7177-FD7B-40FB-BFA1-C9723D63CB9B}" type="slidenum">
              <a:rPr b="0" lang="en-US" sz="36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F6C1-FCD2-476E-816A-78258DDF90CA}" type="slidenum">
              <a:rPr b="0" lang="en-US" sz="36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Content Placeholder 3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770580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79912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280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209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1374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77043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2007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4848120" cy="2638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3348000" y="3429000"/>
            <a:ext cx="4830840" cy="3133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http://www.loyalty-program.co.uk/wp-content/uploads/2011/08/asda-loyalty-card.jpg"/>
          <p:cNvPicPr/>
          <p:nvPr/>
        </p:nvPicPr>
        <p:blipFill>
          <a:blip r:embed="rId3"/>
          <a:stretch/>
        </p:blipFill>
        <p:spPr>
          <a:xfrm>
            <a:off x="5580000" y="0"/>
            <a:ext cx="33339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4790880" cy="2305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4067280" y="3716280"/>
            <a:ext cx="3983040" cy="1990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http://www.jonas.co.uk/images/library/images/sinsbury.gif"/>
          <p:cNvPicPr/>
          <p:nvPr/>
        </p:nvPicPr>
        <p:blipFill>
          <a:blip r:embed="rId3"/>
          <a:stretch/>
        </p:blipFill>
        <p:spPr>
          <a:xfrm>
            <a:off x="324000" y="5157720"/>
            <a:ext cx="32194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136000" cy="4392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http://www.designerstalk.com/forums/attachments/typography/4115d1201286728-wilkinsons-font-please-help-wilko-jpeg-logo.jpg"/>
          <p:cNvPicPr/>
          <p:nvPr/>
        </p:nvPicPr>
        <p:blipFill>
          <a:blip r:embed="rId2"/>
          <a:stretch/>
        </p:blipFill>
        <p:spPr>
          <a:xfrm>
            <a:off x="3564000" y="260280"/>
            <a:ext cx="50799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2803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7848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3"/>
          <p:cNvSpPr/>
          <p:nvPr/>
        </p:nvSpPr>
        <p:spPr>
          <a:xfrm>
            <a:off x="250920" y="189000"/>
            <a:ext cx="3241440" cy="459720"/>
          </a:xfrm>
          <a:prstGeom prst="rect">
            <a:avLst/>
          </a:prstGeom>
          <a:gradFill rotWithShape="0">
            <a:gsLst>
              <a:gs pos="0">
                <a:srgbClr val="97ffe4"/>
              </a:gs>
              <a:gs pos="100000">
                <a:srgbClr val="dffff5"/>
              </a:gs>
            </a:gsLst>
            <a:lin ang="27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arning Objectiv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250920" y="868320"/>
            <a:ext cx="3949560" cy="946440"/>
          </a:xfrm>
          <a:prstGeom prst="rect">
            <a:avLst/>
          </a:prstGeom>
          <a:gradFill rotWithShape="0">
            <a:gsLst>
              <a:gs pos="0">
                <a:srgbClr val="ff8080"/>
              </a:gs>
              <a:gs pos="100000">
                <a:srgbClr val="ffdada"/>
              </a:gs>
            </a:gsLst>
            <a:lin ang="27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ll Will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95959"/>
                </a:solidFill>
                <a:latin typeface="Comic Sans MS"/>
                <a:ea typeface="ＭＳ Ｐゴシック"/>
              </a:rPr>
              <a:t>will calculate marks of a test in percentage terms. 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5656320" y="157320"/>
            <a:ext cx="34401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15</a:t>
            </a:r>
            <a:r>
              <a:rPr b="1" lang="en-GB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Nov 2012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250920" y="3573360"/>
            <a:ext cx="3949560" cy="946440"/>
          </a:xfrm>
          <a:prstGeom prst="rect">
            <a:avLst/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89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ome Could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95959"/>
                </a:solidFill>
                <a:latin typeface="Comic Sans MS"/>
                <a:ea typeface="ＭＳ Ｐゴシック"/>
              </a:rPr>
              <a:t>evaluate one number as a fraction of another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8" name="TextBox 7"/>
          <p:cNvGrpSpPr/>
          <p:nvPr/>
        </p:nvGrpSpPr>
        <p:grpSpPr>
          <a:xfrm>
            <a:off x="231840" y="2182680"/>
            <a:ext cx="3986280" cy="993960"/>
            <a:chOff x="231840" y="2182680"/>
            <a:chExt cx="3986280" cy="993960"/>
          </a:xfrm>
        </p:grpSpPr>
        <p:pic>
          <p:nvPicPr>
            <p:cNvPr id="119" name="TextBox 7" descr=""/>
            <p:cNvPicPr/>
            <p:nvPr/>
          </p:nvPicPr>
          <p:blipFill>
            <a:blip r:embed="rId1"/>
            <a:stretch/>
          </p:blipFill>
          <p:spPr>
            <a:xfrm>
              <a:off x="231840" y="2182680"/>
              <a:ext cx="398628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250920" y="2200320"/>
              <a:ext cx="39495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Most Should: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595959"/>
                  </a:solidFill>
                  <a:latin typeface="Comic Sans MS"/>
                  <a:ea typeface="ＭＳ Ｐゴシック"/>
                </a:rPr>
                <a:t>calculate percentage increase and decrease.</a:t>
              </a:r>
              <a:endParaRPr b="1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1" name="TextBox 8"/>
          <p:cNvSpPr/>
          <p:nvPr/>
        </p:nvSpPr>
        <p:spPr>
          <a:xfrm>
            <a:off x="1582560" y="5084640"/>
            <a:ext cx="3497400" cy="1189800"/>
          </a:xfrm>
          <a:prstGeom prst="rect">
            <a:avLst/>
          </a:prstGeom>
          <a:solidFill>
            <a:srgbClr val="c8e0e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al World Links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ale prices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centage increase / decrease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2" name="TextBox 9"/>
          <p:cNvGrpSpPr/>
          <p:nvPr/>
        </p:nvGrpSpPr>
        <p:grpSpPr>
          <a:xfrm>
            <a:off x="4406760" y="907920"/>
            <a:ext cx="3273480" cy="622440"/>
            <a:chOff x="4406760" y="907920"/>
            <a:chExt cx="3273480" cy="622440"/>
          </a:xfrm>
        </p:grpSpPr>
        <p:pic>
          <p:nvPicPr>
            <p:cNvPr id="123" name="TextBox 9" descr=""/>
            <p:cNvPicPr/>
            <p:nvPr/>
          </p:nvPicPr>
          <p:blipFill>
            <a:blip r:embed="rId2"/>
            <a:stretch/>
          </p:blipFill>
          <p:spPr>
            <a:xfrm>
              <a:off x="4406760" y="907920"/>
              <a:ext cx="327348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4422600" y="925560"/>
              <a:ext cx="324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Level 5</a:t>
              </a:r>
              <a:endParaRPr b="1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5" name="TextBox 10"/>
          <p:cNvSpPr/>
          <p:nvPr/>
        </p:nvSpPr>
        <p:spPr>
          <a:xfrm>
            <a:off x="4419720" y="2216160"/>
            <a:ext cx="3240000" cy="580680"/>
          </a:xfrm>
          <a:prstGeom prst="rect">
            <a:avLst/>
          </a:prstGeom>
          <a:gradFill rotWithShape="0">
            <a:gsLst>
              <a:gs pos="0">
                <a:srgbClr val="fff3da"/>
              </a:gs>
              <a:gs pos="100000">
                <a:srgbClr val="ffde80"/>
              </a:gs>
            </a:gsLst>
            <a:lin ang="27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Level 5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Box 11"/>
          <p:cNvSpPr/>
          <p:nvPr/>
        </p:nvSpPr>
        <p:spPr>
          <a:xfrm>
            <a:off x="4419720" y="3603600"/>
            <a:ext cx="3240000" cy="580680"/>
          </a:xfrm>
          <a:prstGeom prst="rect">
            <a:avLst/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89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Level 6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6516720" y="5308560"/>
            <a:ext cx="2448000" cy="1067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ercentage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oportion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Increase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Decrease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3"/>
          <a:srcRect l="0" t="78081" r="82778" b="0"/>
          <a:stretch/>
        </p:blipFill>
        <p:spPr>
          <a:xfrm>
            <a:off x="0" y="5308560"/>
            <a:ext cx="1582560" cy="1468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4"/>
          <a:srcRect l="64645" t="79674" r="24040" b="5158"/>
          <a:stretch/>
        </p:blipFill>
        <p:spPr>
          <a:xfrm>
            <a:off x="5337000" y="5425920"/>
            <a:ext cx="1036800" cy="10098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15"/>
          <p:cNvSpPr/>
          <p:nvPr/>
        </p:nvSpPr>
        <p:spPr>
          <a:xfrm>
            <a:off x="4505400" y="13968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ate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042400" cy="133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Show as percentages;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195640" y="1915920"/>
            <a:ext cx="2193840" cy="40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87/100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45/100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57/100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750920" y="1599840"/>
            <a:ext cx="384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23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7c9f"/>
                </a:solidFill>
                <a:latin typeface="News Gothic MT"/>
              </a:rPr>
              <a:t>Show as percentages</a:t>
            </a:r>
            <a:endParaRPr b="0" lang="en-US" sz="28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28/50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18/20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20/25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68/75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7c9f"/>
                </a:solidFill>
                <a:latin typeface="News Gothic MT"/>
              </a:rPr>
              <a:t>Show as percentages;</a:t>
            </a:r>
            <a:endParaRPr b="0" lang="en-US" sz="28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115640" y="1599840"/>
            <a:ext cx="7475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19/23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58/60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78/85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18/30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9"/>
          <p:cNvSpPr/>
          <p:nvPr/>
        </p:nvSpPr>
        <p:spPr>
          <a:xfrm>
            <a:off x="592560" y="333360"/>
            <a:ext cx="545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44a58"/>
                </a:solidFill>
                <a:latin typeface="Comic Sans MS"/>
              </a:rPr>
              <a:t>Percentage Increase / Decreas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 Box 50"/>
          <p:cNvSpPr/>
          <p:nvPr/>
        </p:nvSpPr>
        <p:spPr>
          <a:xfrm>
            <a:off x="515880" y="1057320"/>
            <a:ext cx="809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Caroline’s phone contract increased from £25 per month to £30 per month. Find the percentage increase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51"/>
          <p:cNvSpPr/>
          <p:nvPr/>
        </p:nvSpPr>
        <p:spPr>
          <a:xfrm>
            <a:off x="709200" y="1981080"/>
            <a:ext cx="733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Here the increase is £5 on the original cost of £25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We write this as a fraction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1" name="Group 52"/>
          <p:cNvGrpSpPr/>
          <p:nvPr/>
        </p:nvGrpSpPr>
        <p:grpSpPr>
          <a:xfrm>
            <a:off x="2590920" y="2819520"/>
            <a:ext cx="610920" cy="1015920"/>
            <a:chOff x="2590920" y="2819520"/>
            <a:chExt cx="610920" cy="1015920"/>
          </a:xfrm>
        </p:grpSpPr>
        <p:sp>
          <p:nvSpPr>
            <p:cNvPr id="142" name="Text Box 53"/>
            <p:cNvSpPr/>
            <p:nvPr/>
          </p:nvSpPr>
          <p:spPr>
            <a:xfrm>
              <a:off x="2590920" y="2819520"/>
              <a:ext cx="6109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cc00cc"/>
                  </a:solidFill>
                  <a:latin typeface="Comic Sans MS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cc00cc"/>
                  </a:solidFill>
                  <a:latin typeface="Comic Sans MS"/>
                </a:rPr>
                <a:t>25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Line 54"/>
            <p:cNvSpPr/>
            <p:nvPr/>
          </p:nvSpPr>
          <p:spPr>
            <a:xfrm>
              <a:off x="2733480" y="3251880"/>
              <a:ext cx="323280" cy="0"/>
            </a:xfrm>
            <a:prstGeom prst="line">
              <a:avLst/>
            </a:prstGeom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4" name="Text Box 55"/>
          <p:cNvSpPr/>
          <p:nvPr/>
        </p:nvSpPr>
        <p:spPr>
          <a:xfrm>
            <a:off x="584280" y="3962520"/>
            <a:ext cx="35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Calculation:  =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omic Sans MS"/>
              </a:rPr>
              <a:t>5  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  X 100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                      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25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Text Box 56"/>
          <p:cNvSpPr/>
          <p:nvPr/>
        </p:nvSpPr>
        <p:spPr>
          <a:xfrm>
            <a:off x="2497320" y="5516640"/>
            <a:ext cx="10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= 20%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Line 59"/>
          <p:cNvSpPr/>
          <p:nvPr/>
        </p:nvSpPr>
        <p:spPr>
          <a:xfrm>
            <a:off x="609480" y="914400"/>
            <a:ext cx="7925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Box 1"/>
          <p:cNvSpPr/>
          <p:nvPr/>
        </p:nvSpPr>
        <p:spPr>
          <a:xfrm>
            <a:off x="5880240" y="3213000"/>
            <a:ext cx="18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7c9f"/>
                </a:solidFill>
                <a:latin typeface="News Gothic MT"/>
              </a:rPr>
              <a:t>Examples – find the percentage increase/decrease of the following ;</a:t>
            </a:r>
            <a:endParaRPr b="0" lang="en-US" sz="28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115640" y="1599840"/>
            <a:ext cx="7475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ncrease from £80 to £100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ncrease from 45 to 55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ecrease from 78 to 70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ecrease from £100 to £85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9"/>
          <p:cNvSpPr/>
          <p:nvPr/>
        </p:nvSpPr>
        <p:spPr>
          <a:xfrm>
            <a:off x="592560" y="333360"/>
            <a:ext cx="545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44a58"/>
                </a:solidFill>
                <a:latin typeface="Comic Sans MS"/>
              </a:rPr>
              <a:t>Percentage Increase / Decreas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 Box 50"/>
          <p:cNvSpPr/>
          <p:nvPr/>
        </p:nvSpPr>
        <p:spPr>
          <a:xfrm>
            <a:off x="515880" y="1057320"/>
            <a:ext cx="809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A store decided to decrease the price of a bike by 25%.  The original price was £350, find the new price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 Box 51"/>
          <p:cNvSpPr/>
          <p:nvPr/>
        </p:nvSpPr>
        <p:spPr>
          <a:xfrm>
            <a:off x="702000" y="1981080"/>
            <a:ext cx="614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Here the decrease in price is 25% of £350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55"/>
          <p:cNvSpPr/>
          <p:nvPr/>
        </p:nvSpPr>
        <p:spPr>
          <a:xfrm>
            <a:off x="713160" y="4437000"/>
            <a:ext cx="55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So the new price will be £350 - £87.50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56"/>
          <p:cNvSpPr/>
          <p:nvPr/>
        </p:nvSpPr>
        <p:spPr>
          <a:xfrm>
            <a:off x="2552040" y="522936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= £262.50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Line 59"/>
          <p:cNvSpPr/>
          <p:nvPr/>
        </p:nvSpPr>
        <p:spPr>
          <a:xfrm>
            <a:off x="609480" y="914400"/>
            <a:ext cx="7925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Box 1"/>
          <p:cNvSpPr/>
          <p:nvPr/>
        </p:nvSpPr>
        <p:spPr>
          <a:xfrm>
            <a:off x="5880240" y="3213000"/>
            <a:ext cx="18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51"/>
          <p:cNvSpPr/>
          <p:nvPr/>
        </p:nvSpPr>
        <p:spPr>
          <a:xfrm>
            <a:off x="801720" y="2606760"/>
            <a:ext cx="387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25% of £350 =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omic Sans MS"/>
              </a:rPr>
              <a:t>25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  X  £350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                         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51"/>
          <p:cNvSpPr/>
          <p:nvPr/>
        </p:nvSpPr>
        <p:spPr>
          <a:xfrm>
            <a:off x="892440" y="3543480"/>
            <a:ext cx="31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                      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= £87.50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7c9f"/>
                </a:solidFill>
                <a:latin typeface="News Gothic MT"/>
              </a:rPr>
              <a:t>Examples – find the new amount following a percentage increase / decrease;</a:t>
            </a:r>
            <a:endParaRPr b="0" lang="en-US" sz="28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115640" y="1600200"/>
            <a:ext cx="74754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tem costing £200 is reduced by 15%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tem costing £15 is reduced by 5%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Length of a 20cm spring can be increased by 40%.  Maximum length 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unner wants to increase his 5Km run by 12%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9"/>
          <p:cNvSpPr/>
          <p:nvPr/>
        </p:nvSpPr>
        <p:spPr>
          <a:xfrm>
            <a:off x="539640" y="333360"/>
            <a:ext cx="28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44a58"/>
                </a:solidFill>
                <a:latin typeface="Comic Sans MS"/>
              </a:rPr>
              <a:t>Unitary Method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50"/>
          <p:cNvSpPr/>
          <p:nvPr/>
        </p:nvSpPr>
        <p:spPr>
          <a:xfrm>
            <a:off x="515880" y="1057320"/>
            <a:ext cx="809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If 5 bananas cost £1.00, how much would 7 cost ?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51"/>
          <p:cNvSpPr/>
          <p:nvPr/>
        </p:nvSpPr>
        <p:spPr>
          <a:xfrm>
            <a:off x="536760" y="1981080"/>
            <a:ext cx="657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You can calculate the cost of a single banan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Line 59"/>
          <p:cNvSpPr/>
          <p:nvPr/>
        </p:nvSpPr>
        <p:spPr>
          <a:xfrm>
            <a:off x="609480" y="914400"/>
            <a:ext cx="7925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5880240" y="3213000"/>
            <a:ext cx="18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51"/>
          <p:cNvSpPr/>
          <p:nvPr/>
        </p:nvSpPr>
        <p:spPr>
          <a:xfrm>
            <a:off x="658800" y="2606760"/>
            <a:ext cx="39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£1.00 / 5 = 20p per banan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51"/>
          <p:cNvSpPr/>
          <p:nvPr/>
        </p:nvSpPr>
        <p:spPr>
          <a:xfrm>
            <a:off x="692280" y="354348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7 bananas would cost 20p x 7 = £1.40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7c9f"/>
                </a:solidFill>
                <a:latin typeface="News Gothic MT"/>
              </a:rPr>
              <a:t>Examples – unitary method</a:t>
            </a:r>
            <a:endParaRPr b="0" lang="en-US" sz="28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115640" y="1600200"/>
            <a:ext cx="74754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t costs £80 to take 4 children to legoland.  How much would it cost to take 5 children 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4 chocolate bars cost £1.00.  How much would 7 cost 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You need 10 tins of paint to cover 4 rooms.  How many would you need to cover 3 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f 1kg of flour is needed to bake 5 cakes, how much flour would you need for 2 cakes 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5614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79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Quick Review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49000" y="907560"/>
            <a:ext cx="8042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News Gothic MT"/>
              </a:rPr>
              <a:t>Increase </a:t>
            </a:r>
            <a:r>
              <a:rPr b="0" lang="en-US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₤60 by 12%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Find 35% of ₤300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Simplify the following ratios ;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lvl="1" marL="793800" indent="-4572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2:8         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lvl="1" marL="793800" indent="-4572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15:20          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lvl="1" marL="793800" indent="-4572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12:18          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lvl="1" marL="793800" indent="-4572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42:12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Divide ₤100 in the ratio 4:6 for Ryan and Daniel respectively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35% of the children in a school eat at the canteen.  If there are 1,200 children in the school, how many eat at the canteen.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25 students out of group are able to swim.  If 80% of the students can swim, how many students are there in the whole group ?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In Comet’s closing down sale, ipod nanos are reduced in price by 15% from ₤129.  What is their new price ?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2c7c9f"/>
                </a:solidFill>
                <a:latin typeface="News Gothic MT"/>
              </a:rPr>
              <a:t>Would you rather …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98989"/>
                </a:solidFill>
                <a:latin typeface="News Gothic MT"/>
              </a:rPr>
              <a:t>% question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2c7c9f"/>
                </a:solidFill>
                <a:latin typeface="News Gothic MT"/>
              </a:rPr>
              <a:t>Question 1</a:t>
            </a:r>
            <a:endParaRPr b="0" lang="en-US" sz="60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49360" y="1599840"/>
            <a:ext cx="6759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Have 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A)  25% of £2.00</a:t>
            </a: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  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Or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B)  60% of 80p ?   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TextBox 1"/>
          <p:cNvSpPr/>
          <p:nvPr/>
        </p:nvSpPr>
        <p:spPr>
          <a:xfrm>
            <a:off x="7308720" y="3141720"/>
            <a:ext cx="1843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Rectangle 2" descr=""/>
          <p:cNvPicPr/>
          <p:nvPr/>
        </p:nvPicPr>
        <p:blipFill>
          <a:blip r:embed="rId1"/>
          <a:stretch/>
        </p:blipFill>
        <p:spPr>
          <a:xfrm>
            <a:off x="6699240" y="2682720"/>
            <a:ext cx="1401840" cy="919440"/>
          </a:xfrm>
          <a:prstGeom prst="rect">
            <a:avLst/>
          </a:prstGeom>
          <a:ln w="0">
            <a:noFill/>
          </a:ln>
        </p:spPr>
      </p:pic>
      <p:pic>
        <p:nvPicPr>
          <p:cNvPr id="178" name="Rectangle 6" descr=""/>
          <p:cNvPicPr/>
          <p:nvPr/>
        </p:nvPicPr>
        <p:blipFill>
          <a:blip r:embed="rId2"/>
          <a:stretch/>
        </p:blipFill>
        <p:spPr>
          <a:xfrm>
            <a:off x="6791400" y="4290840"/>
            <a:ext cx="140184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2c7c9f"/>
                </a:solidFill>
                <a:latin typeface="News Gothic MT"/>
              </a:rPr>
              <a:t>Question 2</a:t>
            </a:r>
            <a:endParaRPr b="0" lang="en-US" sz="60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49360" y="1599840"/>
            <a:ext cx="7262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Be attacked by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A)  35% of 120 tigers  </a:t>
            </a: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	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Or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B)   20% of 150 tigers?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81" name="Rectangle 3" descr=""/>
          <p:cNvPicPr/>
          <p:nvPr/>
        </p:nvPicPr>
        <p:blipFill>
          <a:blip r:embed="rId1"/>
          <a:stretch/>
        </p:blipFill>
        <p:spPr>
          <a:xfrm>
            <a:off x="7491240" y="2682720"/>
            <a:ext cx="1030320" cy="919440"/>
          </a:xfrm>
          <a:prstGeom prst="rect">
            <a:avLst/>
          </a:prstGeom>
          <a:ln w="0">
            <a:noFill/>
          </a:ln>
        </p:spPr>
      </p:pic>
      <p:pic>
        <p:nvPicPr>
          <p:cNvPr id="182" name="Rectangle 4" descr=""/>
          <p:cNvPicPr/>
          <p:nvPr/>
        </p:nvPicPr>
        <p:blipFill>
          <a:blip r:embed="rId2"/>
          <a:stretch/>
        </p:blipFill>
        <p:spPr>
          <a:xfrm>
            <a:off x="7491240" y="4578480"/>
            <a:ext cx="103032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2c7c9f"/>
                </a:solidFill>
                <a:latin typeface="News Gothic MT"/>
              </a:rPr>
              <a:t>Question 3</a:t>
            </a:r>
            <a:endParaRPr b="0" lang="en-US" sz="60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Be bitten by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A)  20% of 60 mosquitos</a:t>
            </a: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	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Or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B)   15% of 80 mosquitos?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85" name="Rectangle 3" descr=""/>
          <p:cNvPicPr/>
          <p:nvPr/>
        </p:nvPicPr>
        <p:blipFill>
          <a:blip r:embed="rId1"/>
          <a:stretch/>
        </p:blipFill>
        <p:spPr>
          <a:xfrm>
            <a:off x="7851600" y="1987560"/>
            <a:ext cx="1030320" cy="927000"/>
          </a:xfrm>
          <a:prstGeom prst="rect">
            <a:avLst/>
          </a:prstGeom>
          <a:ln w="0">
            <a:noFill/>
          </a:ln>
        </p:spPr>
      </p:pic>
      <p:pic>
        <p:nvPicPr>
          <p:cNvPr id="186" name="Rectangle 4" descr=""/>
          <p:cNvPicPr/>
          <p:nvPr/>
        </p:nvPicPr>
        <p:blipFill>
          <a:blip r:embed="rId2"/>
          <a:stretch/>
        </p:blipFill>
        <p:spPr>
          <a:xfrm>
            <a:off x="7851600" y="3932280"/>
            <a:ext cx="103032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2c7c9f"/>
                </a:solidFill>
                <a:latin typeface="News Gothic MT"/>
              </a:rPr>
              <a:t>Question 4</a:t>
            </a:r>
            <a:endParaRPr b="0" lang="en-US" sz="60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Be given homework by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A)   70% of 120 teachers</a:t>
            </a: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	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Or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B)   65% of 140 teachers ?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89" name="Rectangle 3" descr=""/>
          <p:cNvPicPr/>
          <p:nvPr/>
        </p:nvPicPr>
        <p:blipFill>
          <a:blip r:embed="rId1"/>
          <a:stretch/>
        </p:blipFill>
        <p:spPr>
          <a:xfrm>
            <a:off x="7851600" y="2670120"/>
            <a:ext cx="1030320" cy="927000"/>
          </a:xfrm>
          <a:prstGeom prst="rect">
            <a:avLst/>
          </a:prstGeom>
          <a:ln w="0">
            <a:noFill/>
          </a:ln>
        </p:spPr>
      </p:pic>
      <p:pic>
        <p:nvPicPr>
          <p:cNvPr id="190" name="Rectangle 4" descr=""/>
          <p:cNvPicPr/>
          <p:nvPr/>
        </p:nvPicPr>
        <p:blipFill>
          <a:blip r:embed="rId2"/>
          <a:stretch/>
        </p:blipFill>
        <p:spPr>
          <a:xfrm>
            <a:off x="7711920" y="5230800"/>
            <a:ext cx="103032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2c7c9f"/>
                </a:solidFill>
                <a:latin typeface="News Gothic MT"/>
              </a:rPr>
              <a:t>Question 5</a:t>
            </a:r>
            <a:endParaRPr b="0" lang="en-US" sz="60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News Gothic MT"/>
              </a:rPr>
              <a:t>Be given 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A)      60% of </a:t>
            </a:r>
            <a:r>
              <a:rPr b="0" lang="en-GB" sz="4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₤</a:t>
            </a: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60 </a:t>
            </a: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	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Or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B)     40% of </a:t>
            </a:r>
            <a:r>
              <a:rPr b="0" lang="en-GB" sz="4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₤</a:t>
            </a: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80 ?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93" name="Rectangle 3" descr=""/>
          <p:cNvPicPr/>
          <p:nvPr/>
        </p:nvPicPr>
        <p:blipFill>
          <a:blip r:embed="rId1"/>
          <a:stretch/>
        </p:blipFill>
        <p:spPr>
          <a:xfrm>
            <a:off x="7364520" y="2567160"/>
            <a:ext cx="1030320" cy="919080"/>
          </a:xfrm>
          <a:prstGeom prst="rect">
            <a:avLst/>
          </a:prstGeom>
          <a:ln w="0">
            <a:noFill/>
          </a:ln>
        </p:spPr>
      </p:pic>
      <p:pic>
        <p:nvPicPr>
          <p:cNvPr id="194" name="Rectangle 4" descr=""/>
          <p:cNvPicPr/>
          <p:nvPr/>
        </p:nvPicPr>
        <p:blipFill>
          <a:blip r:embed="rId2"/>
          <a:stretch/>
        </p:blipFill>
        <p:spPr>
          <a:xfrm>
            <a:off x="7418520" y="4511520"/>
            <a:ext cx="103644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2c7c9f"/>
                </a:solidFill>
                <a:latin typeface="News Gothic MT"/>
              </a:rPr>
              <a:t>Question 6</a:t>
            </a:r>
            <a:endParaRPr b="0" lang="en-US" sz="60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Have to do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A)  5% of 200 detentions</a:t>
            </a: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	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Or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95959"/>
                </a:solidFill>
                <a:latin typeface="News Gothic MT"/>
              </a:rPr>
              <a:t>B)  20% of 110 detentions?</a:t>
            </a:r>
            <a:endParaRPr b="0" lang="en-US" sz="4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97" name="Rectangle 3" descr=""/>
          <p:cNvPicPr/>
          <p:nvPr/>
        </p:nvPicPr>
        <p:blipFill>
          <a:blip r:embed="rId1"/>
          <a:stretch/>
        </p:blipFill>
        <p:spPr>
          <a:xfrm>
            <a:off x="7858080" y="2346480"/>
            <a:ext cx="1030320" cy="927000"/>
          </a:xfrm>
          <a:prstGeom prst="rect">
            <a:avLst/>
          </a:prstGeom>
          <a:ln w="0">
            <a:noFill/>
          </a:ln>
        </p:spPr>
      </p:pic>
      <p:pic>
        <p:nvPicPr>
          <p:cNvPr id="198" name="Rectangle 4" descr=""/>
          <p:cNvPicPr/>
          <p:nvPr/>
        </p:nvPicPr>
        <p:blipFill>
          <a:blip r:embed="rId2"/>
          <a:stretch/>
        </p:blipFill>
        <p:spPr>
          <a:xfrm>
            <a:off x="7881840" y="5230800"/>
            <a:ext cx="103032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2c7c9f"/>
                </a:solidFill>
                <a:latin typeface="News Gothic MT"/>
              </a:rPr>
              <a:t>Answer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News Gothic MT"/>
              </a:rPr>
              <a:t>On the next slid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2c7c9f"/>
                </a:solidFill>
                <a:latin typeface="News Gothic MT"/>
              </a:rPr>
              <a:t>Answer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News Gothic MT"/>
              </a:rPr>
              <a:t>The (probably) preferable answer is highlighted red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News Gothic MT"/>
              </a:rPr>
              <a:t>50p</a:t>
            </a:r>
            <a:r>
              <a:rPr b="0" lang="en-GB" sz="2400" spc="-1" strike="noStrike">
                <a:solidFill>
                  <a:srgbClr val="595959"/>
                </a:solidFill>
                <a:latin typeface="News Gothic MT"/>
              </a:rPr>
              <a:t> vs 48p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GB" sz="2400" spc="-1" strike="noStrike">
                <a:solidFill>
                  <a:srgbClr val="595959"/>
                </a:solidFill>
                <a:latin typeface="News Gothic MT"/>
              </a:rPr>
              <a:t>42 vs </a:t>
            </a:r>
            <a:r>
              <a:rPr b="0" lang="en-GB" sz="2400" spc="-1" strike="noStrike">
                <a:solidFill>
                  <a:srgbClr val="ff0000"/>
                </a:solidFill>
                <a:latin typeface="News Gothic MT"/>
              </a:rPr>
              <a:t>30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News Gothic MT"/>
              </a:rPr>
              <a:t>12 vs 12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News Gothic MT"/>
              </a:rPr>
              <a:t>84</a:t>
            </a:r>
            <a:r>
              <a:rPr b="0" lang="en-GB" sz="2400" spc="-1" strike="noStrike">
                <a:solidFill>
                  <a:srgbClr val="595959"/>
                </a:solidFill>
                <a:latin typeface="News Gothic MT"/>
              </a:rPr>
              <a:t> vs 91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News Gothic MT"/>
              </a:rPr>
              <a:t>36</a:t>
            </a:r>
            <a:r>
              <a:rPr b="0" lang="en-GB" sz="2400" spc="-1" strike="noStrike">
                <a:solidFill>
                  <a:srgbClr val="595959"/>
                </a:solidFill>
                <a:latin typeface="News Gothic MT"/>
              </a:rPr>
              <a:t> vs 32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News Gothic MT"/>
              </a:rPr>
              <a:t>10</a:t>
            </a:r>
            <a:r>
              <a:rPr b="0" lang="en-GB" sz="2400" spc="-1" strike="noStrike">
                <a:solidFill>
                  <a:srgbClr val="595959"/>
                </a:solidFill>
                <a:latin typeface="News Gothic MT"/>
              </a:rPr>
              <a:t> vs 22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34544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511344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74880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62643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3516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921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8T13:45:10Z</dcterms:created>
  <dc:creator>Marian Armstrong</dc:creator>
  <dc:description/>
  <dc:language>en-US</dc:language>
  <cp:lastModifiedBy>Claire Storm</cp:lastModifiedBy>
  <cp:lastPrinted>2012-11-11T12:00:27Z</cp:lastPrinted>
  <dcterms:modified xsi:type="dcterms:W3CDTF">2012-11-13T11:37:50Z</dcterms:modified>
  <cp:revision>61</cp:revision>
  <dc:subject/>
  <dc:title>Finding a Percentage of a Quantity</dc:title>
</cp:coreProperties>
</file>