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9EFF-9EF1-4042-BCDA-FBC473847F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AF10-2CF4-44C0-AC7C-0068C7DF1E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75C6-DB54-49BE-AF43-72CA80C692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2951-7084-4391-9D81-E2290DCE5C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743-FCF1-4A45-856D-1A7D3989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55B-1649-41E2-BADA-4F615BA3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8BC-0B2D-4B6E-B624-EEDCAF6A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595-87B9-4CA7-B6D1-FED111D8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00C6-CBF4-477C-92B6-E7E51676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3D21-216C-4DF6-B71C-89B6F717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4207-2D23-4749-88FF-055B23CF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F8E3-884A-4466-ABB5-4941646D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248C-0660-4C2E-9DEC-543278D1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4F5D-81F1-48E4-AEF8-3129A6C0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9B68-89B1-47CE-B79D-136EE1A6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1EC-1A39-4FE1-A4AE-3C3C28C3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62E6-BC01-4348-999A-A440DE85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9C22-4ED2-43B6-9624-E6B650CD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0D69-EB5D-4D83-A06D-74753CAA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E14D-CAF7-413E-BF5B-FE060EB8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22A8-9317-464E-89FD-8FEE57E8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46F-D870-4A57-B043-01C5DB66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664-D929-4805-B211-3605AA8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633-8EF3-4B05-B0E3-064CE45D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62E-44E5-444C-9D23-2CCA8B8A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6F4-5204-4F9E-ABE9-88323E8D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598-8EE0-4EA5-BD06-E5CFBACB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F6D-B2AB-4D87-88C9-DE719083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3664-04DA-4FEB-AFFF-B4CEB8722963}" type="slidenum">
              <a:rPr b="0" lang="en-US" sz="3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6FF0-6243-4F84-A5BF-219A4DB87B97}" type="slidenum">
              <a:rPr b="0" lang="en-US" sz="3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705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991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09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13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704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848120" cy="2638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830840" cy="3133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loyalty-program.co.uk/wp-content/uploads/2011/08/asda-loyalty-card.jpg"/>
          <p:cNvPicPr/>
          <p:nvPr/>
        </p:nvPicPr>
        <p:blipFill>
          <a:blip r:embed="rId3"/>
          <a:stretch/>
        </p:blipFill>
        <p:spPr>
          <a:xfrm>
            <a:off x="5580000" y="0"/>
            <a:ext cx="3333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790880" cy="230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067280" y="3716280"/>
            <a:ext cx="3983040" cy="19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www.jonas.co.uk/images/library/images/sinsbury.gif"/>
          <p:cNvPicPr/>
          <p:nvPr/>
        </p:nvPicPr>
        <p:blipFill>
          <a:blip r:embed="rId3"/>
          <a:stretch/>
        </p:blipFill>
        <p:spPr>
          <a:xfrm>
            <a:off x="324000" y="5157720"/>
            <a:ext cx="3219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136000" cy="439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www.designerstalk.com/forums/attachments/typography/4115d1201286728-wilkinsons-font-please-help-wilko-jpeg-logo.jpg"/>
          <p:cNvPicPr/>
          <p:nvPr/>
        </p:nvPicPr>
        <p:blipFill>
          <a:blip r:embed="rId2"/>
          <a:stretch/>
        </p:blipFill>
        <p:spPr>
          <a:xfrm>
            <a:off x="3564000" y="260280"/>
            <a:ext cx="5079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48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250920" y="189000"/>
            <a:ext cx="3241440" cy="459720"/>
          </a:xfrm>
          <a:prstGeom prst="rect">
            <a:avLst/>
          </a:prstGeom>
          <a:gradFill rotWithShape="0">
            <a:gsLst>
              <a:gs pos="0">
                <a:srgbClr val="97ffe4"/>
              </a:gs>
              <a:gs pos="100000">
                <a:srgbClr val="dffff5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50920" y="868320"/>
            <a:ext cx="3949560" cy="94644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l Will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95959"/>
                </a:solidFill>
                <a:latin typeface="Comic Sans MS"/>
                <a:ea typeface="ＭＳ Ｐゴシック"/>
              </a:rPr>
              <a:t>will calculate marks of a test in percentage terms.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656320" y="157320"/>
            <a:ext cx="34401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Nov 201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250920" y="3573360"/>
            <a:ext cx="3949560" cy="94644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me Could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95959"/>
                </a:solidFill>
                <a:latin typeface="Comic Sans MS"/>
                <a:ea typeface="ＭＳ Ｐゴシック"/>
              </a:rPr>
              <a:t>evaluate one number as a fraction of another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TextBox 7"/>
          <p:cNvGrpSpPr/>
          <p:nvPr/>
        </p:nvGrpSpPr>
        <p:grpSpPr>
          <a:xfrm>
            <a:off x="231840" y="2182680"/>
            <a:ext cx="3986280" cy="993960"/>
            <a:chOff x="231840" y="2182680"/>
            <a:chExt cx="3986280" cy="993960"/>
          </a:xfrm>
        </p:grpSpPr>
        <p:pic>
          <p:nvPicPr>
            <p:cNvPr id="119" name="TextBox 7" descr=""/>
            <p:cNvPicPr/>
            <p:nvPr/>
          </p:nvPicPr>
          <p:blipFill>
            <a:blip r:embed="rId1"/>
            <a:stretch/>
          </p:blipFill>
          <p:spPr>
            <a:xfrm>
              <a:off x="231840" y="2182680"/>
              <a:ext cx="39862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50920" y="2200320"/>
              <a:ext cx="3949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Most Should: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595959"/>
                  </a:solidFill>
                  <a:latin typeface="Comic Sans MS"/>
                  <a:ea typeface="ＭＳ Ｐゴシック"/>
                </a:rPr>
                <a:t>calculate percentage increase and decrease.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TextBox 8"/>
          <p:cNvSpPr/>
          <p:nvPr/>
        </p:nvSpPr>
        <p:spPr>
          <a:xfrm>
            <a:off x="1582560" y="5084640"/>
            <a:ext cx="3497400" cy="1189800"/>
          </a:xfrm>
          <a:prstGeom prst="rect">
            <a:avLst/>
          </a:prstGeom>
          <a:solidFill>
            <a:srgbClr val="c8e0e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al World Link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ale prices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centage increase / decrea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" name="TextBox 9"/>
          <p:cNvGrpSpPr/>
          <p:nvPr/>
        </p:nvGrpSpPr>
        <p:grpSpPr>
          <a:xfrm>
            <a:off x="4406760" y="907920"/>
            <a:ext cx="3273480" cy="622440"/>
            <a:chOff x="4406760" y="907920"/>
            <a:chExt cx="3273480" cy="622440"/>
          </a:xfrm>
        </p:grpSpPr>
        <p:pic>
          <p:nvPicPr>
            <p:cNvPr id="123" name="TextBox 9" descr=""/>
            <p:cNvPicPr/>
            <p:nvPr/>
          </p:nvPicPr>
          <p:blipFill>
            <a:blip r:embed="rId2"/>
            <a:stretch/>
          </p:blipFill>
          <p:spPr>
            <a:xfrm>
              <a:off x="4406760" y="907920"/>
              <a:ext cx="3273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422600" y="925560"/>
              <a:ext cx="324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Level 5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4419720" y="2216160"/>
            <a:ext cx="3240000" cy="580680"/>
          </a:xfrm>
          <a:prstGeom prst="rect">
            <a:avLst/>
          </a:prstGeom>
          <a:gradFill rotWithShape="0">
            <a:gsLst>
              <a:gs pos="0">
                <a:srgbClr val="fff3da"/>
              </a:gs>
              <a:gs pos="100000">
                <a:srgbClr val="ffde80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Level 5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4419720" y="3603600"/>
            <a:ext cx="3240000" cy="58068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Level 6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6516720" y="5308560"/>
            <a:ext cx="2448000" cy="106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ercentag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Increa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Decrea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3"/>
          <a:srcRect l="0" t="78081" r="82778" b="0"/>
          <a:stretch/>
        </p:blipFill>
        <p:spPr>
          <a:xfrm>
            <a:off x="0" y="5308560"/>
            <a:ext cx="1582560" cy="1468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4"/>
          <a:srcRect l="64645" t="79674" r="24040" b="5158"/>
          <a:stretch/>
        </p:blipFill>
        <p:spPr>
          <a:xfrm>
            <a:off x="5337000" y="5425920"/>
            <a:ext cx="1036800" cy="1009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5"/>
          <p:cNvSpPr/>
          <p:nvPr/>
        </p:nvSpPr>
        <p:spPr>
          <a:xfrm>
            <a:off x="4505400" y="1396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42400" cy="13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how as percentages;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95640" y="1915920"/>
            <a:ext cx="2193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87/100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45/100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57/100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Show as percentages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8/5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8/2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0/2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68/7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Show as percentages;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15640" y="159984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9/23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58/6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78/8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8/3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9"/>
          <p:cNvSpPr/>
          <p:nvPr/>
        </p:nvSpPr>
        <p:spPr>
          <a:xfrm>
            <a:off x="592560" y="333360"/>
            <a:ext cx="54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4a58"/>
                </a:solidFill>
                <a:latin typeface="Comic Sans MS"/>
              </a:rPr>
              <a:t>Percentage Increase / Decrea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515880" y="1057320"/>
            <a:ext cx="80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Caroline’s phone contract increased from £25 per month to £30 per month. Find the percentage increas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709200" y="1981080"/>
            <a:ext cx="733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Here the increase is £5 on the original cost of £25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We write this as a fraction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Group 52"/>
          <p:cNvGrpSpPr/>
          <p:nvPr/>
        </p:nvGrpSpPr>
        <p:grpSpPr>
          <a:xfrm>
            <a:off x="2590920" y="2819520"/>
            <a:ext cx="610920" cy="1015920"/>
            <a:chOff x="2590920" y="2819520"/>
            <a:chExt cx="610920" cy="1015920"/>
          </a:xfrm>
        </p:grpSpPr>
        <p:sp>
          <p:nvSpPr>
            <p:cNvPr id="142" name="Text Box 53"/>
            <p:cNvSpPr/>
            <p:nvPr/>
          </p:nvSpPr>
          <p:spPr>
            <a:xfrm>
              <a:off x="2590920" y="2819520"/>
              <a:ext cx="61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cc"/>
                  </a:solidFill>
                  <a:latin typeface="Comic Sans MS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cc"/>
                  </a:solidFill>
                  <a:latin typeface="Comic Sans MS"/>
                </a:rPr>
                <a:t>25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54"/>
            <p:cNvSpPr/>
            <p:nvPr/>
          </p:nvSpPr>
          <p:spPr>
            <a:xfrm>
              <a:off x="2733480" y="3251880"/>
              <a:ext cx="323280" cy="0"/>
            </a:xfrm>
            <a:prstGeom prst="line">
              <a:avLst/>
            </a:prstGeom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4" name="Text Box 55"/>
          <p:cNvSpPr/>
          <p:nvPr/>
        </p:nvSpPr>
        <p:spPr>
          <a:xfrm>
            <a:off x="584280" y="3962520"/>
            <a:ext cx="35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Calculation:  =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omic Sans MS"/>
              </a:rPr>
              <a:t>5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X 10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                  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56"/>
          <p:cNvSpPr/>
          <p:nvPr/>
        </p:nvSpPr>
        <p:spPr>
          <a:xfrm>
            <a:off x="2497320" y="551664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= 20%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59"/>
          <p:cNvSpPr/>
          <p:nvPr/>
        </p:nvSpPr>
        <p:spPr>
          <a:xfrm>
            <a:off x="609480" y="914400"/>
            <a:ext cx="792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5880240" y="32130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Examples – find the percentage increase/decrease of the following ;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15640" y="159984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crease from £80 to £10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crease from 45 to 5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rease from 78 to 7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rease from £100 to £8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9"/>
          <p:cNvSpPr/>
          <p:nvPr/>
        </p:nvSpPr>
        <p:spPr>
          <a:xfrm>
            <a:off x="592560" y="333360"/>
            <a:ext cx="54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4a58"/>
                </a:solidFill>
                <a:latin typeface="Comic Sans MS"/>
              </a:rPr>
              <a:t>Percentage Increase / Decrea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15880" y="1057320"/>
            <a:ext cx="80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A store decided to decrease the price of a bike by 25%.  The original price was £350, find the new pric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702000" y="1981080"/>
            <a:ext cx="61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Here the decrease in price is 25% of £350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5"/>
          <p:cNvSpPr/>
          <p:nvPr/>
        </p:nvSpPr>
        <p:spPr>
          <a:xfrm>
            <a:off x="713160" y="443700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 the new price will be £350 - £87.5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6"/>
          <p:cNvSpPr/>
          <p:nvPr/>
        </p:nvSpPr>
        <p:spPr>
          <a:xfrm>
            <a:off x="2552040" y="522936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= £262.5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59"/>
          <p:cNvSpPr/>
          <p:nvPr/>
        </p:nvSpPr>
        <p:spPr>
          <a:xfrm>
            <a:off x="609480" y="914400"/>
            <a:ext cx="792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5880240" y="32130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51"/>
          <p:cNvSpPr/>
          <p:nvPr/>
        </p:nvSpPr>
        <p:spPr>
          <a:xfrm>
            <a:off x="801720" y="2606760"/>
            <a:ext cx="38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25% of £350 =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omic Sans MS"/>
              </a:rPr>
              <a:t>25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X  £350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                     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892440" y="354348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                  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= £87.5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Examples – find the new amount following a percentage increase / decrease;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15640" y="1600200"/>
            <a:ext cx="7475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em costing £200 is reduced by 15%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em costing £15 is reduced by 5%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ngth of a 20cm spring can be increased by 40%.  Maximum length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unner wants to increase his 5Km run by 12%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9"/>
          <p:cNvSpPr/>
          <p:nvPr/>
        </p:nvSpPr>
        <p:spPr>
          <a:xfrm>
            <a:off x="539640" y="333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4a58"/>
                </a:solidFill>
                <a:latin typeface="Comic Sans MS"/>
              </a:rPr>
              <a:t>Unitary Metho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0"/>
          <p:cNvSpPr/>
          <p:nvPr/>
        </p:nvSpPr>
        <p:spPr>
          <a:xfrm>
            <a:off x="515880" y="1057320"/>
            <a:ext cx="80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If 5 bananas cost £1.00, how much would 7 cost 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1"/>
          <p:cNvSpPr/>
          <p:nvPr/>
        </p:nvSpPr>
        <p:spPr>
          <a:xfrm>
            <a:off x="536760" y="1981080"/>
            <a:ext cx="65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You can calculate the cost of a single bana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59"/>
          <p:cNvSpPr/>
          <p:nvPr/>
        </p:nvSpPr>
        <p:spPr>
          <a:xfrm>
            <a:off x="609480" y="914400"/>
            <a:ext cx="792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5880240" y="32130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658800" y="260676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£1.00 / 5 = 20p per bana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51"/>
          <p:cNvSpPr/>
          <p:nvPr/>
        </p:nvSpPr>
        <p:spPr>
          <a:xfrm>
            <a:off x="692280" y="35434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7 bananas would cost 20p x 7 = £1.4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Examples – unitary method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15640" y="1600200"/>
            <a:ext cx="7475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costs £80 to take 4 children to legoland.  How much would it cost to take 5 children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4 chocolate bars cost £1.00.  How much would 7 cost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You need 10 tins of paint to cover 4 rooms.  How many would you need to cover 3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1kg of flour is needed to bake 5 cakes, how much flour would you need for 2 cakes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561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Quick Review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49000" y="907560"/>
            <a:ext cx="8042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Increase </a:t>
            </a: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₤60 by 12%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Find 35% of ₤300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Simplify the following ratios ;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2:8         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5:20          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2:18          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42:12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Divide ₤100 in the ratio 4:6 for Ryan and Daniel respectively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35% of the children in a school eat at the canteen.  If there are 1,200 children in the school, how many eat at the canteen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25 students out of group are able to swim.  If 80% of the students can swim, how many students are there in the whole group 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In Comet’s closing down sale, ipod nanos are reduced in price by 15% from ₤129.  What is their new price ?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2c7c9f"/>
                </a:solidFill>
                <a:latin typeface="News Gothic MT"/>
              </a:rPr>
              <a:t>Would you rather 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98989"/>
                </a:solidFill>
                <a:latin typeface="News Gothic MT"/>
              </a:rPr>
              <a:t>% question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1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49360" y="1599840"/>
            <a:ext cx="675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Have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25% of £2.00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 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60% of 80p ?  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7308720" y="3141720"/>
            <a:ext cx="1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6699240" y="2682720"/>
            <a:ext cx="1401840" cy="919440"/>
          </a:xfrm>
          <a:prstGeom prst="rect">
            <a:avLst/>
          </a:prstGeom>
          <a:ln w="0">
            <a:noFill/>
          </a:ln>
        </p:spPr>
      </p:pic>
      <p:pic>
        <p:nvPicPr>
          <p:cNvPr id="178" name="Rectangle 6" descr=""/>
          <p:cNvPicPr/>
          <p:nvPr/>
        </p:nvPicPr>
        <p:blipFill>
          <a:blip r:embed="rId2"/>
          <a:stretch/>
        </p:blipFill>
        <p:spPr>
          <a:xfrm>
            <a:off x="6791400" y="4290840"/>
            <a:ext cx="140184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2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49360" y="1599840"/>
            <a:ext cx="7262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e attacked by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35% of 120 tigers  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20% of 150 tigers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1" name="Rectangle 3" descr=""/>
          <p:cNvPicPr/>
          <p:nvPr/>
        </p:nvPicPr>
        <p:blipFill>
          <a:blip r:embed="rId1"/>
          <a:stretch/>
        </p:blipFill>
        <p:spPr>
          <a:xfrm>
            <a:off x="7491240" y="2682720"/>
            <a:ext cx="1030320" cy="91944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4" descr=""/>
          <p:cNvPicPr/>
          <p:nvPr/>
        </p:nvPicPr>
        <p:blipFill>
          <a:blip r:embed="rId2"/>
          <a:stretch/>
        </p:blipFill>
        <p:spPr>
          <a:xfrm>
            <a:off x="7491240" y="4578480"/>
            <a:ext cx="10303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3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e bitten by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20% of 60 mosquitos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15% of 80 mosquitos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5" name="Rectangle 3" descr=""/>
          <p:cNvPicPr/>
          <p:nvPr/>
        </p:nvPicPr>
        <p:blipFill>
          <a:blip r:embed="rId1"/>
          <a:stretch/>
        </p:blipFill>
        <p:spPr>
          <a:xfrm>
            <a:off x="7851600" y="198756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4" descr=""/>
          <p:cNvPicPr/>
          <p:nvPr/>
        </p:nvPicPr>
        <p:blipFill>
          <a:blip r:embed="rId2"/>
          <a:stretch/>
        </p:blipFill>
        <p:spPr>
          <a:xfrm>
            <a:off x="7851600" y="3932280"/>
            <a:ext cx="1030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4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e given homework by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 70% of 120 teachers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65% of 140 teachers 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9" name="Rectangle 3" descr=""/>
          <p:cNvPicPr/>
          <p:nvPr/>
        </p:nvPicPr>
        <p:blipFill>
          <a:blip r:embed="rId1"/>
          <a:stretch/>
        </p:blipFill>
        <p:spPr>
          <a:xfrm>
            <a:off x="7851600" y="267012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4" descr=""/>
          <p:cNvPicPr/>
          <p:nvPr/>
        </p:nvPicPr>
        <p:blipFill>
          <a:blip r:embed="rId2"/>
          <a:stretch/>
        </p:blipFill>
        <p:spPr>
          <a:xfrm>
            <a:off x="7711920" y="5230800"/>
            <a:ext cx="10303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5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News Gothic MT"/>
              </a:rPr>
              <a:t>Be given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    60% of </a:t>
            </a:r>
            <a:r>
              <a:rPr b="0" lang="en-GB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₤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60 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  40% of </a:t>
            </a:r>
            <a:r>
              <a:rPr b="0" lang="en-GB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₤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80 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7364520" y="2567160"/>
            <a:ext cx="1030320" cy="91908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4" descr=""/>
          <p:cNvPicPr/>
          <p:nvPr/>
        </p:nvPicPr>
        <p:blipFill>
          <a:blip r:embed="rId2"/>
          <a:stretch/>
        </p:blipFill>
        <p:spPr>
          <a:xfrm>
            <a:off x="7418520" y="4511520"/>
            <a:ext cx="103644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6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Have to do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5% of 200 detentions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20% of 110 detentions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97" name="Rectangle 3" descr=""/>
          <p:cNvPicPr/>
          <p:nvPr/>
        </p:nvPicPr>
        <p:blipFill>
          <a:blip r:embed="rId1"/>
          <a:stretch/>
        </p:blipFill>
        <p:spPr>
          <a:xfrm>
            <a:off x="7858080" y="234648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4" descr=""/>
          <p:cNvPicPr/>
          <p:nvPr/>
        </p:nvPicPr>
        <p:blipFill>
          <a:blip r:embed="rId2"/>
          <a:stretch/>
        </p:blipFill>
        <p:spPr>
          <a:xfrm>
            <a:off x="7881840" y="5230800"/>
            <a:ext cx="10303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2c7c9f"/>
                </a:solidFill>
                <a:latin typeface="News Gothic MT"/>
              </a:rPr>
              <a:t>Answe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On the next slid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2c7c9f"/>
                </a:solidFill>
                <a:latin typeface="News Gothic MT"/>
              </a:rPr>
              <a:t>Answe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The (probably) preferable answer is highlighted r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50p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48p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42 vs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3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12 vs 1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84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91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36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3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10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2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45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1134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48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2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3:45:10Z</dcterms:created>
  <dc:creator>Marian Armstrong</dc:creator>
  <dc:description/>
  <dc:language>en-US</dc:language>
  <cp:lastModifiedBy>Claire Storm</cp:lastModifiedBy>
  <cp:lastPrinted>2012-11-11T12:00:27Z</cp:lastPrinted>
  <dcterms:modified xsi:type="dcterms:W3CDTF">2012-11-13T11:37:50Z</dcterms:modified>
  <cp:revision>61</cp:revision>
  <dc:subject/>
  <dc:title>Finding a Percentage of a Quantity</dc:title>
</cp:coreProperties>
</file>